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88920" y="3994200"/>
            <a:ext cx="74138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800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88920" y="39942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8000" y="39942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5960" y="159516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2640" y="159516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88920" y="399420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95960" y="399420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2640" y="399420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8000" y="159516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63360" y="91872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8000" y="159516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88920" y="39942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800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88000" y="39942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800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88920" y="3994200"/>
            <a:ext cx="74138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88920" y="3994200"/>
            <a:ext cx="74138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800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88920" y="39942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88000" y="39942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5960" y="159516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02640" y="159516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88920" y="399420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5960" y="399420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02640" y="399420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8000" y="159516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63360" y="91872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8000" y="159516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88920" y="39942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800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8000" y="39942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800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8920" y="3994200"/>
            <a:ext cx="74138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720" y="6566040"/>
            <a:ext cx="2435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1984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I </a:t>
            </a:r>
            <a:r>
              <a:rPr b="1" lang="en-US" sz="1000" spc="-1" strike="noStrike">
                <a:solidFill>
                  <a:srgbClr val="39536b"/>
                </a:solidFill>
                <a:latin typeface="Arial"/>
                <a:ea typeface="Arial"/>
              </a:rPr>
              <a:t>-</a:t>
            </a: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 Using PSP2 - </a:t>
            </a:r>
            <a:fld id="{7C6AC3AD-06CF-4B6E-8D1D-43F5F8FF3406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1592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I </a:t>
            </a:r>
            <a:r>
              <a:rPr b="1" lang="en-US" sz="1000" spc="-1" strike="noStrike">
                <a:solidFill>
                  <a:srgbClr val="39536b"/>
                </a:solidFill>
                <a:latin typeface="Arial"/>
                <a:ea typeface="Arial"/>
              </a:rPr>
              <a:t>-</a:t>
            </a: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 Using PSP2 - </a:t>
            </a:r>
            <a:fld id="{FF7CFA77-120B-4019-B1B7-D40FE8420F00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128520"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2" marL="465120" algn="ctr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3" marL="13701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4" marL="18255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5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6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5360" y="1766520"/>
            <a:ext cx="801828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39536b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 </a:t>
            </a:r>
            <a:br>
              <a:rPr sz="3100"/>
            </a:b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for Engineers: Part II</a:t>
            </a:r>
            <a:br>
              <a:rPr sz="4800"/>
            </a:br>
            <a:r>
              <a:rPr b="1" lang="en-US" sz="3600" spc="-1" strike="noStrike">
                <a:solidFill>
                  <a:srgbClr val="39536b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Tutorial: Using PSP2</a:t>
            </a:r>
            <a:endParaRPr b="1" lang="en-US" sz="45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With Review Rate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Benchmark data on code review rates can be used to estimate review time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From PSP data, we know that code review rates under 200 LOC/hour generally give high yield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Using planned added and modified LOC, code review time can be calculated using this formula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981000" y="4665600"/>
                <a:ext cx="763596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de review ti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lanned Added and Modified LO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879480" y="5578560"/>
            <a:ext cx="79185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Assume a similar rate for design reviews.</a:t>
            </a:r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With Review Rate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o add review time to your plan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increase the total minutes, and/or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reduce compile and test time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As a final check of your estimate, make sure that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review rates are less than 200 LOC per hour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defect removal rates are between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3 to 5 per hour for design review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5 to 10 per hour for code review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A/FR is about 2.0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Considera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Initially no historical data are available for planning defects injected and removed in review phases. 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Until you have data for design and code review phases, you may want to consider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defects injected are 0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defects removed should be based on your yield goal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Your yield goal should be based on your interim report analysis.  If you do not have a yield goal, you should try to achieve greater than 60% yield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Defects Remove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88560" y="1595520"/>
            <a:ext cx="74566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Defects removed in a review phase are calculated using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number of defects escaping from prior phase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number of defects injected in a phase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ercentage of defects removed, i.e. Phase Yield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481040" y="3787920"/>
          <a:ext cx="5416560" cy="841320"/>
        </p:xfrm>
        <a:graphic>
          <a:graphicData uri="http://schemas.openxmlformats.org/drawingml/2006/table">
            <a:tbl>
              <a:tblPr/>
              <a:tblGrid>
                <a:gridCol w="2387520"/>
                <a:gridCol w="535320"/>
                <a:gridCol w="2493720"/>
              </a:tblGrid>
              <a:tr h="33552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efects present</a:t>
                      </a:r>
                      <a:endParaRPr b="0" lang="en-US" sz="22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2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scapes + injected</a:t>
                      </a:r>
                      <a:endParaRPr b="0" lang="en-US" sz="22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0680">
                <a:tc>
                  <a:txBody>
                    <a:bodyPr lIns="0" rIns="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efects removed</a:t>
                      </a:r>
                      <a:endParaRPr b="0" lang="en-US" sz="22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2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esent </a:t>
                      </a:r>
                      <a:r>
                        <a:rPr b="0" lang="en-US" sz="2200" spc="-1" strike="noStrike">
                          <a:solidFill>
                            <a:srgbClr val="39536b"/>
                          </a:solidFill>
                          <a:latin typeface="Arial"/>
                          <a:ea typeface="Arial"/>
                        </a:rPr>
                        <a:t>×</a:t>
                      </a:r>
                      <a:r>
                        <a:rPr b="0" lang="en-US" sz="2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 phase yield</a:t>
                      </a:r>
                      <a:endParaRPr b="0" lang="en-US" sz="22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2 Project Plan 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88560" y="1595160"/>
            <a:ext cx="363060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 your estimates of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7200" indent="-28728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in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7200" indent="-28728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injected in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7200" indent="-28728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removed in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se values on the PSP2 project plan summar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2695" t="14643" r="4128" b="4455"/>
          <a:stretch/>
        </p:blipFill>
        <p:spPr>
          <a:xfrm>
            <a:off x="4746600" y="1606680"/>
            <a:ext cx="3641760" cy="39304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45280" y="2367000"/>
            <a:ext cx="188640" cy="182520"/>
          </a:xfrm>
          <a:prstGeom prst="ellipse">
            <a:avLst/>
          </a:prstGeom>
          <a:solidFill>
            <a:srgbClr val="9c2108"/>
          </a:solidFill>
          <a:ln w="93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343480" y="3576600"/>
            <a:ext cx="189000" cy="182520"/>
          </a:xfrm>
          <a:prstGeom prst="ellipse">
            <a:avLst/>
          </a:prstGeom>
          <a:solidFill>
            <a:srgbClr val="9c2108"/>
          </a:solidFill>
          <a:ln w="93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43480" y="4778280"/>
            <a:ext cx="189000" cy="182520"/>
          </a:xfrm>
          <a:prstGeom prst="ellipse">
            <a:avLst/>
          </a:prstGeom>
          <a:solidFill>
            <a:srgbClr val="9c2108"/>
          </a:solidFill>
          <a:ln w="93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rived Quality Measur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SP2 also provides the following derived quality measures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Defect removal efficiency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Defect removal leverage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est defects per KLOC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otal defects per KLOC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Yield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Removal Efficienc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18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 removal efficiency is calculated automatically and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5720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hows the number of defects removed per hour fo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85720" indent="-45720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ign review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85720" indent="-45720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de review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85720" indent="-45720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mpil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85720" indent="-45720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484280" y="5850000"/>
                <a:ext cx="58039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fect removal efficienc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fects removed in phas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 in phas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inutes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70120" y="3614760"/>
            <a:ext cx="5175360" cy="209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64720" y="1595520"/>
            <a:ext cx="7410600" cy="16113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419040" indent="0">
              <a:lnSpc>
                <a:spcPct val="90000"/>
              </a:lnSpc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 removal leverage is calculated automatically and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buNone/>
              <a:tabLst>
                <a:tab algn="l" pos="0"/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mpares removal efficiency fo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lnSpc>
                <a:spcPct val="90000"/>
              </a:lnSpc>
              <a:buClr>
                <a:srgbClr val="39536b"/>
              </a:buClr>
              <a:buFont typeface="Arial"/>
              <a:buAutoNum type="arabicPeriod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ign Review vs. Unit Te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lnSpc>
                <a:spcPct val="90000"/>
              </a:lnSpc>
              <a:buClr>
                <a:srgbClr val="39536b"/>
              </a:buClr>
              <a:buFont typeface="Arial"/>
              <a:buAutoNum type="arabicPeriod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de Review vs. Unit Te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lnSpc>
                <a:spcPct val="90000"/>
              </a:lnSpc>
              <a:buClr>
                <a:srgbClr val="39536b"/>
              </a:buClr>
              <a:buFont typeface="Arial"/>
              <a:buAutoNum type="arabicPeriod"/>
              <a:tabLst>
                <a:tab algn="r" pos="1162080"/>
                <a:tab algn="l" pos="1292400"/>
                <a:tab algn="r" pos="2324160"/>
                <a:tab algn="l" pos="258300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mpile vs. Unit Te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977760" y="94752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Removal Levera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614600" y="5533920"/>
                <a:ext cx="595944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fect removal leverage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efects removed per hour for a review or compile phas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efects removed per hour for unit tes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968480" y="3338640"/>
            <a:ext cx="5175360" cy="209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Defects Per KLOC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8920" y="1595520"/>
            <a:ext cx="7413840" cy="11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85720" indent="-45720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est defects per KLOC is calculated automatically and is an indicator of the quality of the program that you put into test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476360" y="5645160"/>
                <a:ext cx="6024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est defects/KLO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fects removed in tes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Added and Modifie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027160" y="2936880"/>
            <a:ext cx="4967280" cy="24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otal Defects Per KLOC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88920" y="1595520"/>
            <a:ext cx="7413840" cy="12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85720" indent="-45720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otal defects per KLOC is calculated automatically and is a measure of the total defects injected during the process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562040" y="5645160"/>
                <a:ext cx="60786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otal defects/KLO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otal defects remove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Added and Modified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O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95480" y="3044880"/>
            <a:ext cx="496728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utorial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After this tutorial, you will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understand the new PSP2 process element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know how to use the PSP2 scripts and form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be prepared to use PSP2 for program 5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Yiel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88560" y="1595160"/>
            <a:ext cx="744084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85720" indent="-45720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Yield (actual and to-date) is calculated automatically for the entire process and is the percentage of defects injected and removed before the first compile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1773360" y="5761080"/>
                <a:ext cx="539244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ield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verall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fects removed before compil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efects injected before compil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057400" y="3289320"/>
            <a:ext cx="4967280" cy="241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You will see more improvement from design and code reviews than any other process change you make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Quality will improve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roductivity will increase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SP2 provides data that allows you to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lan for specific quality level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control quality during development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improve the quality of your PSP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increase productivity without sacrificing quality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2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e objectives of PSP2 are to introduce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design and code review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methods for evaluating and improving the quality of your review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New Process Ele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88920" y="1595520"/>
            <a:ext cx="7413840" cy="47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ere are two new process elements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design review checklist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code review checklist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Design and code review checklists are described separately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SP2 adds two key capabilities to the PSP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design and code review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quality planning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e PSP2 project plan summary supports these two new capabilities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Design and Code Review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wo phases have been added to the proces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85720" indent="-45720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ign reviews (DLDR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85720" indent="-45720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de reviews (CR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45720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9560" y="2838600"/>
            <a:ext cx="3936960" cy="9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ime and defect data from these phases are summarized on the PSP2 Project Plan Summary.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62040" y="3924360"/>
            <a:ext cx="4336920" cy="24670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86520" y="2538360"/>
            <a:ext cx="3504960" cy="38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ality Plann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SP2 introduces quality planning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Quality planning involve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estimating the total number of defects that will be injected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estimating the number of defects that will be injected and removed in each process phase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estimating the amount of time needed for design and code review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adjusting these parameters as needed to ensure a high quality result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Total Def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2968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o estimate the total defects injected and removed, use the estimated program size and to-date defect density to calculate the estimated total defects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Use this formula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030320" y="3817800"/>
          <a:ext cx="7673760" cy="723960"/>
        </p:xfrm>
        <a:graphic>
          <a:graphicData uri="http://schemas.openxmlformats.org/drawingml/2006/table">
            <a:tbl>
              <a:tblPr/>
              <a:tblGrid>
                <a:gridCol w="2784240"/>
                <a:gridCol w="4889520"/>
              </a:tblGrid>
              <a:tr h="670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lanned total defects = </a:t>
                      </a:r>
                      <a:endParaRPr b="0" lang="en-US" sz="22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o-date total defects/KLOC </a:t>
                      </a:r>
                      <a:r>
                        <a:rPr b="0" lang="en-US" sz="2200" spc="-1" strike="noStrike">
                          <a:solidFill>
                            <a:srgbClr val="39536b"/>
                          </a:solidFill>
                          <a:latin typeface="Arial"/>
                          <a:ea typeface="Arial"/>
                        </a:rPr>
                        <a:t>×</a:t>
                      </a:r>
                      <a:endParaRPr b="0" lang="en-US" sz="22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0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lanned Added and Modified LOC / 1000</a:t>
                      </a:r>
                      <a:endParaRPr b="0" lang="en-US" sz="22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Defects by Pha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o estimate defects injected and removed by phase, distribute the planned total defects injected and removed based on historical data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400" spc="-1" strike="noStrike">
                <a:solidFill>
                  <a:srgbClr val="39536b"/>
                </a:solidFill>
                <a:latin typeface="Arial"/>
              </a:rPr>
              <a:t>Planned Total Defect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400" spc="-1" strike="noStrike">
                <a:solidFill>
                  <a:srgbClr val="39536b"/>
                </a:solidFill>
                <a:latin typeface="Arial"/>
              </a:rPr>
              <a:t>To Date % </a:t>
            </a: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defects injected in each phase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400" spc="-1" strike="noStrike">
                <a:solidFill>
                  <a:srgbClr val="39536b"/>
                </a:solidFill>
                <a:latin typeface="Arial"/>
              </a:rPr>
              <a:t>To Date % </a:t>
            </a: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defects removed in each phase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633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Review Tim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ese PSP benchmarks can be used to estimate design review and code review time in phase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85680" y="2708280"/>
            <a:ext cx="7446960" cy="2073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98640" y="5203800"/>
            <a:ext cx="7526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For manual calculations, starting with the code review rate is recommended.</a:t>
            </a:r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dc:language>en-US</dc:language>
  <cp:lastModifiedBy>Julia Mullaney</cp:lastModifiedBy>
  <cp:lastPrinted>2000-12-21T16:04:54Z</cp:lastPrinted>
  <dcterms:modified xsi:type="dcterms:W3CDTF">2006-10-30T20:35:21Z</dcterms:modified>
  <cp:revision>190</cp:revision>
  <dc:subject/>
  <dc:title>No Slide Title</dc:title>
</cp:coreProperties>
</file>