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596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264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8892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9596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264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63360" y="93312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9596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02640" y="159516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8892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9596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02640" y="3994200"/>
            <a:ext cx="238716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63360" y="93312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88000" y="399420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88000" y="15951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8920" y="3994200"/>
            <a:ext cx="74138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804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1.1 - </a:t>
            </a:r>
            <a:fld id="{8D8912CB-DF50-4933-9F1C-924D2C960EE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1592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624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1.1 - </a:t>
            </a:r>
            <a:fld id="{ED821CF8-2037-4C47-8111-14D539D2C88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1761840"/>
            <a:ext cx="81057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39536b"/>
                </a:solidFill>
                <a:latin typeface="Arial"/>
              </a:rPr>
              <a:t>for Engineers: Part I</a:t>
            </a:r>
            <a:br>
              <a:rPr sz="3100"/>
            </a:br>
            <a:r>
              <a:rPr b="1" lang="en-US" sz="3600" spc="-1" strike="noStrike">
                <a:solidFill>
                  <a:srgbClr val="39536b"/>
                </a:solidFill>
                <a:latin typeface="Arial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39536b"/>
                </a:solidFill>
                <a:latin typeface="Arial"/>
              </a:rPr>
              <a:t>Tutorial: Using PSP1.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68520" y="17683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Pla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Use the task order menu to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Update the task and schedule pla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hange task order for the selected task or task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76922" t="19741" r="1532" b="60442"/>
          <a:stretch/>
        </p:blipFill>
        <p:spPr>
          <a:xfrm>
            <a:off x="2075040" y="3262320"/>
            <a:ext cx="3116160" cy="23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 planned hours for each schedule week must be entered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Other data are calculated automatically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1205" t="9229" r="5513" b="53479"/>
          <a:stretch/>
        </p:blipFill>
        <p:spPr>
          <a:xfrm>
            <a:off x="958680" y="3355920"/>
            <a:ext cx="76107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ask and schedule planning templates are not required for small programs, but are helpful for longer task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SP1.1 gives you insight into your historical performance (CPI). 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utorial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fter this tutorial, you will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understand the new elements of PSP1.1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know how to use the PSP1.1 scripts and form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be prepared to use PSP1.1 for program 4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.1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 objectives of PSP1.1 are to introduce and practice methods for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aking resource and schedule plan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racking your performance against these plan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judging likely project completion date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w Process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re are two new process element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ask planning templat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chedule planning templat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se are typically used for projects that take several days or week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y are not required for the PSP exercise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 project plan summary has been expanded to include basic process statistics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1.1 Project Plan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 summary section has been expanded to includ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lanned tim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ctual tim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PI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%Reused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%New Reusabl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se values are calculated automatically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644" t="17802" r="42526" b="68136"/>
          <a:stretch/>
        </p:blipFill>
        <p:spPr>
          <a:xfrm>
            <a:off x="2251080" y="4734000"/>
            <a:ext cx="4494240" cy="166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asurement Defini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lanned Tim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lan: planned development time for this projec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-Date: sum of planned development time for all completed projects + this projec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ctual Tim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ctual: actual development time for this projec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-Date: sum of actual development time for all completed projects + this projec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ost Performance Index (CPI)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o-Date planned time / To-Date actual tim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asurement Defini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%Reused: percentage of reused size for this projec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Reused / Total * 100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%New Reusable: percentage of new reusable code developed for this project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New Reusable / Added and Modified * 100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and Schedule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ask and schedule plans are used to estimate when work will be completed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asks are entered on the task plan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each task in order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lanned hour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ctual hour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date task completed 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chedule hours are entered on the schedule plan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lanned hours for each schedule week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actual hours for each schedule week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6336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Pla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8892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The phases of each project are automatically added to the task plan when the project is created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Only the actual date completed needs to be entered, the other data are automatically calculated.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485" t="8855" r="1532" b="54996"/>
          <a:stretch/>
        </p:blipFill>
        <p:spPr>
          <a:xfrm>
            <a:off x="934920" y="3933720"/>
            <a:ext cx="71946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01-03T15:50:06Z</dcterms:modified>
  <cp:revision>138</cp:revision>
  <dc:subject/>
  <dc:title>No Slide Title</dc:title>
</cp:coreProperties>
</file>