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97DEDF-8AB5-4EEE-9BFF-3EC4B72F208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953B08A4-A014-43B5-86A2-387278C40DC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080720" y="4533840"/>
            <a:ext cx="472284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PH comment:  completely changed format of this graph so that the filled white box behind the graph is gone; title has been moved to correct placement and changed to be consistent with slide master forma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047240" y="4514760"/>
            <a:ext cx="4722840" cy="354672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atts comment: validate a program’s functionality and proper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0640" y="689040"/>
            <a:ext cx="4541760" cy="3406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079280" y="4529160"/>
            <a:ext cx="4617720" cy="35481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iplined processes use reviews and inspections to clear the entire “mine field.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se examples of why the boundary conditions are the most importan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 traffic control landing all planes on 9/11/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uclear Regulatory Commission – everything goes wrong at the same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reme cases are the one you run into and need the system to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D09F89A-EBFD-4B3D-B2E5-75D86F8EC0F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58840" y="687240"/>
            <a:ext cx="4541760" cy="34070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2960" y="4328640"/>
            <a:ext cx="503208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8280" y="89820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8280" y="89820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748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948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748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Software Quality - </a:t>
            </a:r>
            <a:fld id="{51041C12-6EB9-4FAE-B4E9-72DEB54A9A0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12680" y="1420920"/>
            <a:ext cx="743616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33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Software Quality - </a:t>
            </a:r>
            <a:fld id="{F4E5C169-67E1-4E73-9614-F61608B9FA4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Software Quality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652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Method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6760" y="1645920"/>
            <a:ext cx="77248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ways to find and fix defects are b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gration and system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you will likely have to remove lots of defects, you should use the most efficient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15480" y="6280200"/>
            <a:ext cx="13215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ource: Xerox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88920" y="89820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Tim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2000" y="1662120"/>
            <a:ext cx="6991560" cy="460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Method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1720" y="1649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 personal re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privately review your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jective is to find and fix defects before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s are most effective when they are structured and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eviews for requirements, designs, code, and everything else that you develo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so continue to use inspections, compiling, and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Rates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7400" y="1650960"/>
            <a:ext cx="76852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n at the personal level, it is more efficient to find defects in reviews than in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 finds only about 2 to 4 defects per hou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 finds about 50%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s find about 6 to 10 defects per hou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d reviewers can find 70% or more of the defects before compiling or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Rat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87400" y="1797120"/>
            <a:ext cx="7647120" cy="45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07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Reviews are Effici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82720" y="1674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esting, you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ct unusual behavi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gure out what the test program was do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where the problem is in the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gure out which defect could cause such behavi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an take a lot of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reviews and inspections,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your own logi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ere you are when you find a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at the program should do, but did no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why this is a def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in a better position to devise a correct fix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Princip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87040" y="1650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reviews follow a defined process with guidelines, checklists, and standar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review goal is to find every defect before the first compile or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ddress this goal, you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before compiling or tes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coding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esign completenes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improve your review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customized personal checkli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8416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de Review Checkli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91720" y="1650960"/>
            <a:ext cx="7761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reviews will be most effective when your personal checklist is customized to your own defect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your own data to select the checklist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and analyze data on the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the checklist with experie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reviews on a printed listing, not on the scre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ecklist defines the review steps and the suggested order for performing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for one checklist item at a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eck off each item as you complete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7912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sign Review Principl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1720" y="1650960"/>
            <a:ext cx="77504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addition to reviewing code, your should also review your desig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that you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designs that can be review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an explicit review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design in st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at the logic correctly implements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84160" y="7380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viewable Design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0800" y="1650600"/>
            <a:ext cx="7559640" cy="4189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viewable design ha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contex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 repres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stent and clear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uggests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’s purpose and function be explicitly sta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criteria for design completen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is structured in logical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design topics are covered in the next two lect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66520" y="836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9064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qualit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conomics of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-removal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onsiderat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60400" y="803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esign Review Strateg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6120" y="1674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e designs that can be reviewed in stag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uggested review stages are as follow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against the requirements to ensure that each required function is addressed by the desig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Verify the overall program structure and flo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the logical constructs for correctn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for robustness, safety, and secur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the function, method, and procedure calls to ensure proper u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98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6.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eck special variables, parameters, types, and files for proper u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88840" y="817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Measur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0180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efficient reviews, you must have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has many useful quality and process-control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r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per unit of siz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injected and removed per hou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-removal lever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 of quality (COQ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hase Yield 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90280" y="1645920"/>
            <a:ext cx="76597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ase yield measures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age of the defects in the product that were found by that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-removal effectiveness of that process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can be used to measure the effectiveness of design and code reviews, inspections, compiling, and tes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(for a phase) =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0 </a:t>
            </a:r>
            <a:r>
              <a:rPr b="0" lang="en-US" sz="2200" spc="-1" strike="noStrike" baseline="-2000">
                <a:solidFill>
                  <a:srgbClr val="39536b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(defects found) / (defects found + not found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-Removal Fil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33640" y="1546200"/>
            <a:ext cx="507672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8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Yield 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0280" y="1655640"/>
            <a:ext cx="765972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yield is the percentage of defects injected before a phase that were found before tha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xample, yield before system test is the system test process yiel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used without a phase name, process yield refers to the phase yield before compile and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7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Estim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2960" y="1641240"/>
            <a:ext cx="78120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can be estimated but not precisely calculated until all defects have been found through test and product us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ield measures are most useful when the developers and testers record all of th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using process-control measures, you are more likely to do high-yield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7912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tential Control Parame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5840" y="1645920"/>
            <a:ext cx="745992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useful, process control measures must be available during the process.  Exampl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units reviewed per hou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per hou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per size un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no control parameter directly correlates with phase yield, review rate is the most useful control parame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rate is the parameter used in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884160" y="1711440"/>
            <a:ext cx="7367760" cy="468144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Review Rat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Review Rat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6080" y="1459080"/>
            <a:ext cx="8510400" cy="502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7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Yield versus Review Rat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20520" y="1649160"/>
            <a:ext cx="7661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ere is considerable variation, higher rates generally give lower-yield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uggests the following upper limits for review rate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(using the LOC measure): 200 LOC/hou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s: 4 pages/hou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measures: develop from your personal review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53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Quality?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7912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ic definition: meeting the users’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eed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, not w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ue functional needs are often unknow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hierarchy of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requir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performance requir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usable and conveni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economical and tim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dependable and reli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Leverage (DRL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1440" y="1650960"/>
            <a:ext cx="77770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L measures the relative effectiveness of a process step  at remov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L is the number of defects removed per hour by a process step relative to a bas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usual base is unit test (UT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L (X/UT) is the DRL for phase X with respect to unit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L is calculated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L(X/UT) = (defects/hour phase X) / (defects/hour unit test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 of Quality (COQ)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7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Q measure process quality in a way that is meaningful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Q elements are failure, appraisal, and prevention co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ilure cost is the time spent in repair and rework plus the cost of any scrap.  In PSP, it is compile and tes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aisal costs are the costs of inspecting for defects.  In PSP, appraisal cost is design and code review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TSP, inspections are included in appraisal co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 of Quality (COQ)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288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-prevention cost is the cost of identifying and  resolving defect cau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generally is done by a team or a group and usually is led by a support staff memb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defect-prevention cost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al specification and design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totyp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analysis and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recor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st of Quality (COQ)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4000" y="1660320"/>
            <a:ext cx="73454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useful COQ measure is the ratio of appraisal to failure costs (A/FR).  This i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/FR = (appraisal COQ) / (failure COQ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/FR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/FR measures are sensitive to th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 exercises, the A/FR target is 2.0 or grea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 A/FR is associated with low numbers of test defects and high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s should set A/FR targets based on estimated defect-free test tim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74440" y="820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1800" y="1658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before or after compi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elationship of reviews and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444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ing Before Comp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20880" y="1665000"/>
            <a:ext cx="71690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your development environment has a compile step, it is more efficient to do code reviews before compil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easons for this are as follo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ime is about the same before or after compil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reviews are done before compiling, compile time is substantially reduc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ime saved in compiling and testing is often more than the review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e reviews find syntax/typo defects that the compiler would mi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de reviews of compiled code are less effectiv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mpiler is equally effective before or after a revie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grams with many compile defects often have many test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765000" y="1438200"/>
            <a:ext cx="766152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36520" y="2292480"/>
            <a:ext cx="6912360" cy="3705480"/>
            <a:chOff x="1136520" y="2292480"/>
            <a:chExt cx="6912360" cy="3705480"/>
          </a:xfrm>
        </p:grpSpPr>
        <p:sp>
          <p:nvSpPr>
            <p:cNvPr id="170" name=""/>
            <p:cNvSpPr/>
            <p:nvPr/>
          </p:nvSpPr>
          <p:spPr>
            <a:xfrm>
              <a:off x="2085840" y="2405160"/>
              <a:ext cx="5870880" cy="28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85840" y="2405160"/>
              <a:ext cx="1800" cy="287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04840" y="5283360"/>
              <a:ext cx="1605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04840" y="499572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04840" y="47070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04840" y="4421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04840" y="413244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04840" y="384480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04840" y="355608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004840" y="326880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004840" y="297972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04840" y="2693880"/>
              <a:ext cx="160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04840" y="2405160"/>
              <a:ext cx="160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085840" y="5283360"/>
              <a:ext cx="587088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085840" y="52243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26088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443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60556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781680" y="5224320"/>
              <a:ext cx="32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56720" y="5224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57400" y="4659480"/>
              <a:ext cx="1368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68440" y="4948200"/>
              <a:ext cx="1350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32440" y="4659480"/>
              <a:ext cx="135000" cy="950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5740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9574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308400" y="3795840"/>
              <a:ext cx="13644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20880" y="408312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52520" y="5234040"/>
              <a:ext cx="1350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720880" y="4371840"/>
              <a:ext cx="13680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16000" y="5234040"/>
              <a:ext cx="13680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36640" y="51721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736640" y="488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36640" y="4595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6640" y="4309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36640" y="402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736640" y="3733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736640" y="3444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36640" y="31590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736640" y="28702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36640" y="25812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589040" y="229248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011320" y="54482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1129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28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5796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3264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807320" y="544824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74400" y="577224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16200000">
              <a:off x="605880" y="36558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pile vs. Test Defects - Student 20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6640" y="1495440"/>
            <a:ext cx="741852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97000" y="2360520"/>
            <a:ext cx="6699600" cy="3742200"/>
            <a:chOff x="1197000" y="2360520"/>
            <a:chExt cx="6699600" cy="3742200"/>
          </a:xfrm>
        </p:grpSpPr>
        <p:sp>
          <p:nvSpPr>
            <p:cNvPr id="222" name=""/>
            <p:cNvSpPr/>
            <p:nvPr/>
          </p:nvSpPr>
          <p:spPr>
            <a:xfrm>
              <a:off x="2114640" y="2473200"/>
              <a:ext cx="1440" cy="290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036880" y="538308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36880" y="509256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36880" y="480060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036880" y="45100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036880" y="42181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36880" y="3929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36880" y="363852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36880" y="33465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36880" y="3056040"/>
              <a:ext cx="1555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036880" y="276228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36880" y="2473200"/>
              <a:ext cx="1555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114640" y="5383080"/>
              <a:ext cx="5686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211464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53700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957920" y="5324040"/>
              <a:ext cx="144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37848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7800840" y="5324040"/>
              <a:ext cx="1800" cy="117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59592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48040" y="4751280"/>
              <a:ext cx="131760" cy="986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75360" y="30067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0836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5300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903400" y="4462560"/>
              <a:ext cx="130320" cy="9684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208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70400" y="533412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16120" y="5043600"/>
              <a:ext cx="131760" cy="98280"/>
            </a:xfrm>
            <a:prstGeom prst="rect">
              <a:avLst/>
            </a:prstGeom>
            <a:noFill/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778040" y="527040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778040" y="49816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778040" y="4689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78040" y="4398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778040" y="4106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778040" y="381492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778040" y="35258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8040" y="323388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778040" y="29433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78040" y="265104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35120" y="236052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4300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463920" y="5549760"/>
              <a:ext cx="1209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1320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3412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55040" y="5549760"/>
              <a:ext cx="24156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944160" y="5877000"/>
              <a:ext cx="169524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mpile Defects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666360" y="3747600"/>
              <a:ext cx="128700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Test Defects</a:t>
              </a:r>
              <a:endParaRPr b="0" lang="en-US" sz="17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pile vs. Test Defects - Student 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vs. Compile Defects/KLOC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45960" y="1527120"/>
            <a:ext cx="845028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s and Inspec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01800" y="16459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focus of inspections should be to find problems that you have mis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programs have many simple defects, inspectors are distracted and often miss more important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code fir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a quality product for the inspe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s respect for the inspectors’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s higher-quality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s higher-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Quality Focu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3880" y="16556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useful, software mus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all quickly and easi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un consistent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handle normal and abnormal c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do destructive or unexpected th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essentially bug-fre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are not important to users, as long as they do no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fect op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e inconven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 time or mon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e loss of confidence in the program’s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9028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Prevention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94960" y="1650960"/>
            <a:ext cx="76122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is important beca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always expensive to find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fects can be prevented, you can avoid the costs of finding and fixing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analysis costs are incurred once, but the savings apply to every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should follow an orderly strategy and a define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, defect prevention actions include gathering defect data, improving design methods, and prototyp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Preven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960" y="16509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priorities for the defect types that are mo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equently foun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oublesom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sily prevent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noy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-prevention process has the following step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an established schedu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one or two defect types for initial actio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the effectiveness of defect preven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djustments and contin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624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Preven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06120" y="1641240"/>
            <a:ext cx="7723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setting initial priorities, consider the defect types found most frequently in integration and system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PSP data to pick one or two defect types for initial a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’t just try harder; establish explicit prevention action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orporate these actions into your process scripts, checklists, and for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912960" y="1662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 product quality and accelerate development work b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oing reviews and inspections to remove defects before te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esting to check product quality, not to remove volumes of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and code review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mprove the quality of your progr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ave development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do effective reviews, you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ablish review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llow a disciplined review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asure and improve your review practic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7120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Quality Focu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6400" y="1650960"/>
            <a:ext cx="76107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fect content of software products must be managed before more important quality issues can be addres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w defect content is an essential prerequisite to a quality softwar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low defect content can best be achieved where the defects are injected, engineers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move their own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causes of their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to prevent those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Economics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is the only modern technology that relies on testing to manage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common quality practices, software groups typic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end 50+% of the schedule in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ote more than half their resources to fixing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not predict when they will finis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iver poor-quality and over-cost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nage cost and schedule, you must manage qualit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get a quality product out of test, you must put a quality product into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ing Alone is Ineffecti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39120" y="2832120"/>
            <a:ext cx="2504160" cy="17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afe and secure 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gion = tested 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(shaded)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Unsafe and insecure 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region = untested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(unshaded)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26960" y="1765440"/>
            <a:ext cx="603720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762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moving Defects in Tes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0800" y="1655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performing a task thousands of times, economics would suggest that you use the most efficient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50,000 LOC system with traditional development methods w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25+ defects/KLOC at test entry - 1250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12,500+ programmer hours to t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late and over budg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typical rate of 10+ hours per defect, this is 6 programmer yea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8280" y="898200"/>
            <a:ext cx="7421400" cy="5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and Productiv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86040" y="5481720"/>
            <a:ext cx="585612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Managed quality = 60% increased team productivity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89120" y="1743120"/>
            <a:ext cx="7565760" cy="337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01-03T20:05:37Z</dcterms:modified>
  <cp:revision>156</cp:revision>
  <dc:subject/>
  <dc:title>No Slide Title</dc:title>
</cp:coreProperties>
</file>