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748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128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86400" y="6567480"/>
            <a:ext cx="3657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Design Verification - </a:t>
            </a:r>
            <a:fld id="{CF0D5E2E-2C74-4BC0-A446-5CFA1344342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0332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984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78560" y="656748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Design Verification - </a:t>
            </a:r>
            <a:fld id="{8F7972D9-52EA-4D2E-BF29-1B53FA8D60B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Design%20Ver.%20EX.doc" TargetMode="External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360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39536b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Design Verification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88480" y="1643040"/>
            <a:ext cx="7410600" cy="4492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gram steps for this example are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76240" y="82548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ymbolic Execution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42840" y="4811760"/>
            <a:ext cx="745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result for inputs A and B is B and A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7560" y="2352600"/>
            <a:ext cx="5167440" cy="215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79120" y="823680"/>
            <a:ext cx="78786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ymbolic Execution: Assess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2880" y="1654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vantages:  symbolic proof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be gener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ically involve less work than other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sometimes the only practical way to do a comprehensive verificat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advantages: symbolic execut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hard to use, except for algorithmic and substitution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ofs are manual and error-pr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difficult to use with complex logi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6328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cution Tabl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657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execution table is an orderly way to trace program execu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a manual check of program flo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starts with initial condi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set of variable values is selec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execution step is exami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 change in variable values is ent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behavior is checked against the specific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6520" y="82836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cution Tabl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288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dvantages of execution tables are that 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simp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ive reliable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isadvantages of execution tables are that 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 only one case at a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time-consum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subject to human err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76240" y="8334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cution Table Proced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496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use an execution 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key program variables and enter them at the top of the 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principal program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and enter the initial cond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e the variable values through each program st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dditional execution-table copies for each cyclic loo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6652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cution Table Exercis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640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exercise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, use an execution table to verify the correctness of the LogIn progr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 a two-cycle scenario: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3352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lid ID &amp; !Valid P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3352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 timeout error &amp; Valid P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ume nMax = 3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ir up and take 20 minutes to do the verification.  Blank execution tables are in the note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07560" y="5792760"/>
            <a:ext cx="17830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104760" tIns="52200" bIns="522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9536b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20 minutes</a:t>
            </a: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772080" y="5527800"/>
            <a:ext cx="6490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3000" y="87120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LogIn Execution Table -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9520" y="1631880"/>
          <a:ext cx="8118360" cy="389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9520" y="1631880"/>
                    <a:ext cx="8118360" cy="38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120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LogIn Execution Table Discussion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0640" y="16412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gram has an err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the design does not require ID to be set to !Valid on a new cycle, the implementation could result in an err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second cycle, a Valid PW could end the test with ID = Valid, PW = Valid, and Fail = tru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pending on implementation, this design omission could result in an incorrect logi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63280" y="871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LogIn Execution Table -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90520" y="1635120"/>
          <a:ext cx="8496360" cy="407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1635120"/>
                    <a:ext cx="84963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63280" y="871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LogIn Execution Table -3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79360" y="1881360"/>
          <a:ext cx="8496360" cy="40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881360"/>
                    <a:ext cx="849636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9120" y="82836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Topic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02880" y="16430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provides a survey of several design verification topic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sons for design ver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verification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mbolic exec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cution tabl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se checking and trace tab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rrectness ver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 is required to consistently and effectively use these verification techniq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87040" y="83016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se Checking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99640" y="1645920"/>
            <a:ext cx="78044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se checking involves the following five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he program to determine its behavior categor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se categories, identify the cases to chec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 the cases to ensure that they cover all possible situation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program behavior for each c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every case has been verified, program behavior has been verifi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71200" y="823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e Tab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e tables are similar to execution tables, but more gener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e tables examine general program behavior, rather than verifying individual c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e tables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mbolic exec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se check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5600" y="823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e Table Proced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9496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ce table procedure is the same as that for the execution table, plus three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key program variables and enter them at the top of the t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principal program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Identify symbolic execution pos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Define all of the possible cases and select those to chec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and enter the initial condi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e the variable values through each program ste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dditional trace-table copies for each cyclic loo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54756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For multi-cycle loops, group intermediate steps if their results are obvio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1200" y="852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e Table Exampl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8280" y="1700280"/>
            <a:ext cx="7413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learSpaces routine clears leading and trailing spaces from an input string and sets the value of st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98640" y="5219640"/>
            <a:ext cx="7681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following example omits the Length = 0 test and clears trailing spaces.  It is in the textbook, Table 12.5 (page 264)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019160" y="2585880"/>
            <a:ext cx="7723080" cy="255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76240" y="834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e Table Cas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2960" y="16444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ymbolic execution parameters are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ing length: Length &gt; 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ing spaces: 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n-space characters: 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ling spaces: 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ossible cases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 or N or T = 1 while the others = 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 or N or T &gt; 1 while the others = 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 or N or T = 0 while the others &gt; 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 and N and T &gt; 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76240" y="834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e Table Cas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mprehensive test would check all ca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would also check for any limitations on the upper limit values of L, N, and 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mmon trace-table strategy is to pick a specific set of values for each case and then generalize the resul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example for trailing spaces shows the approach with L and N and T &gt; 0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7120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ling Space Example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747720" y="1558800"/>
            <a:ext cx="7898040" cy="4934160"/>
            <a:chOff x="747720" y="1558800"/>
            <a:chExt cx="7898040" cy="4934160"/>
          </a:xfrm>
        </p:grpSpPr>
        <p:sp>
          <p:nvSpPr>
            <p:cNvPr id="150" name=""/>
            <p:cNvSpPr/>
            <p:nvPr/>
          </p:nvSpPr>
          <p:spPr>
            <a:xfrm>
              <a:off x="765000" y="1558800"/>
              <a:ext cx="7829640" cy="4927680"/>
            </a:xfrm>
            <a:prstGeom prst="rect">
              <a:avLst/>
            </a:prstGeom>
            <a:noFill/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560" y="1977840"/>
              <a:ext cx="783756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3560" y="2435040"/>
              <a:ext cx="783756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3560" y="3062160"/>
              <a:ext cx="783756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3560" y="3558960"/>
              <a:ext cx="783756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3560" y="4073400"/>
              <a:ext cx="783756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3560" y="5556240"/>
              <a:ext cx="783756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3560" y="6054840"/>
              <a:ext cx="783756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37080" y="1616040"/>
              <a:ext cx="2993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Cycle 1: L = 1, N = 2, T = 1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76280" y="1623960"/>
              <a:ext cx="4569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ClearSpaces(var Input: string; State: int)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08160" y="1982880"/>
              <a:ext cx="0" cy="45100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881480" y="1969920"/>
              <a:ext cx="1800" cy="44848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980400" y="1982880"/>
              <a:ext cx="0" cy="45100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86520" y="1982880"/>
              <a:ext cx="0" cy="45100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43520" y="1982880"/>
              <a:ext cx="0" cy="451008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47720" y="206856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#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1840" y="258264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49240" y="312876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6640" y="364320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25480" y="413856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080" y="466560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1960" y="511632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54960" y="2081160"/>
              <a:ext cx="14968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Instructions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894200" y="2074680"/>
              <a:ext cx="12578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Condition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152040" y="2081160"/>
              <a:ext cx="7488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90120" y="2074680"/>
              <a:ext cx="951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885440" y="2081160"/>
              <a:ext cx="745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215720" y="2500200"/>
              <a:ext cx="269028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Length := length(Input)</a:t>
              </a:r>
              <a:br>
                <a:rPr sz="1800"/>
              </a:b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State := 0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95160" y="2620800"/>
              <a:ext cx="773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‘ </a:t>
              </a: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AB ‘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238880" y="261468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56440" y="2601720"/>
              <a:ext cx="314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13200" y="3147840"/>
              <a:ext cx="8722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repeat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200600" y="3643200"/>
              <a:ext cx="2554920" cy="58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if Input[Length] = ‘ ‘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00600" y="4176720"/>
              <a:ext cx="28476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Length := Length - 1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05640" y="4653000"/>
              <a:ext cx="3452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if State &lt; 2 State:=State+1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4280" y="5122800"/>
              <a:ext cx="19497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else State := 3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15000" y="5618160"/>
              <a:ext cx="29358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30320"/>
                  <a:tab algn="l" pos="2060640"/>
                  <a:tab algn="l" pos="3090960"/>
                  <a:tab algn="l" pos="4121280"/>
                  <a:tab algn="l" pos="5151600"/>
                  <a:tab algn="l" pos="6181560"/>
                  <a:tab algn="l" pos="7211880"/>
                  <a:tab algn="l" pos="8242200"/>
                  <a:tab algn="l" pos="9272520"/>
                  <a:tab algn="l" pos="1030284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until State=3 or Length=0</a:t>
              </a:r>
              <a:endParaRPr b="0" lang="en-US" sz="18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3560" y="5067360"/>
              <a:ext cx="783756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3560" y="4581360"/>
              <a:ext cx="7837560" cy="0"/>
            </a:xfrm>
            <a:prstGeom prst="line">
              <a:avLst/>
            </a:prstGeom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85600" y="8348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ling Space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93520" y="1654200"/>
            <a:ext cx="7615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using a trace table, it is essential to determine precisely what the computer would do for each ste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example, the value of Input[Length] is indeterminate because the last character of the string is at Length - 1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 def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correcting this defect, the trace table is as shown in the next sli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e Table Example:  Cycle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2880" y="1549440"/>
            <a:ext cx="7829640" cy="4927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1080" y="196848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11080" y="242568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11080" y="305280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11080" y="354960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11080" y="406404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1080" y="554688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1080" y="604512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84600" y="1606680"/>
            <a:ext cx="2993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ycle 1: L = 1, N = 2, T = 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24160" y="1600200"/>
            <a:ext cx="4569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learSpaces(var Input: string; State: int)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5568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7929720" y="1960560"/>
            <a:ext cx="1440" cy="44845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2792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3404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9104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5240" y="2058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09720" y="257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96760" y="31194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84160" y="3633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73000" y="4129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85960" y="46562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79480" y="5106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302480" y="2071800"/>
            <a:ext cx="1496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41720" y="2065320"/>
            <a:ext cx="1257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99560" y="2071800"/>
            <a:ext cx="748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038000" y="2065320"/>
            <a:ext cx="95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932960" y="2071800"/>
            <a:ext cx="745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263240" y="2490840"/>
            <a:ext cx="2690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Length := length(Input)</a:t>
            </a:r>
            <a:br>
              <a:rPr sz="1800"/>
            </a:b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tate := 0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143040" y="2611440"/>
            <a:ext cx="773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‘ 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B ‘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86760" y="2604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04320" y="25923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60720" y="3138480"/>
            <a:ext cx="872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48480" y="3633840"/>
            <a:ext cx="2757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f Input[Length-1] = ‘ ‘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48120" y="4167360"/>
            <a:ext cx="2847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Length := Length - 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03800" y="363996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53520" y="4643280"/>
            <a:ext cx="345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f State &lt; 2 State:=State+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262160" y="5113440"/>
            <a:ext cx="1949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else State := 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72360" y="416232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45200" y="463860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116920" y="464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62880" y="5608800"/>
            <a:ext cx="2935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until State=3 or Length=0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78600" y="5621400"/>
            <a:ext cx="707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11080" y="505764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11080" y="457200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76240" y="56055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e Table Example:  Cycle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8480" y="1549440"/>
            <a:ext cx="7829640" cy="4927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97040" y="1968480"/>
            <a:ext cx="78372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7040" y="2425680"/>
            <a:ext cx="78372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97040" y="3052800"/>
            <a:ext cx="78372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97040" y="3549600"/>
            <a:ext cx="78372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97040" y="4064040"/>
            <a:ext cx="78372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7040" y="5546880"/>
            <a:ext cx="78372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97040" y="6045120"/>
            <a:ext cx="78372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970200" y="1606680"/>
            <a:ext cx="2993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ycle 2: L = 1, N = 2, T = 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09760" y="1600200"/>
            <a:ext cx="4569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learSpaces(var Input: string; State: int)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4128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7915320" y="1960560"/>
            <a:ext cx="1440" cy="44845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1352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11964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7664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1200" y="2058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95320" y="257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82720" y="31194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0120" y="3633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58960" y="4129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71560" y="46562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65080" y="5106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88440" y="2071800"/>
            <a:ext cx="1496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927320" y="2065320"/>
            <a:ext cx="1257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85160" y="2071800"/>
            <a:ext cx="748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23600" y="2065320"/>
            <a:ext cx="95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918560" y="2071800"/>
            <a:ext cx="745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48840" y="2490840"/>
            <a:ext cx="2690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Length := length(Input)</a:t>
            </a:r>
            <a:br>
              <a:rPr sz="1800"/>
            </a:b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tate := 0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29360" y="261144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72360" y="26049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89920" y="25923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46680" y="3138480"/>
            <a:ext cx="872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34440" y="3633840"/>
            <a:ext cx="27576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f Input[Length-1] = ‘ ‘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33720" y="4167360"/>
            <a:ext cx="2847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Length := Length - 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89400" y="3639960"/>
            <a:ext cx="707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39120" y="4643280"/>
            <a:ext cx="3452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f State &lt; 2 State:=State+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47760" y="5113440"/>
            <a:ext cx="1949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31840"/>
                <a:tab algn="l" pos="463680"/>
                <a:tab algn="l" pos="695160"/>
                <a:tab algn="l" pos="927000"/>
                <a:tab algn="l" pos="1158840"/>
                <a:tab algn="l" pos="1390680"/>
                <a:tab algn="l" pos="1622520"/>
                <a:tab algn="l" pos="1854360"/>
                <a:tab algn="l" pos="2085840"/>
                <a:tab algn="l" pos="2317680"/>
                <a:tab algn="l" pos="2549520"/>
                <a:tab algn="l" pos="2781360"/>
                <a:tab algn="l" pos="3013200"/>
                <a:tab algn="l" pos="3244680"/>
                <a:tab algn="l" pos="3476520"/>
                <a:tab algn="l" pos="3708360"/>
                <a:tab algn="l" pos="3940200"/>
                <a:tab algn="l" pos="4172040"/>
                <a:tab algn="l" pos="4403880"/>
                <a:tab algn="l" pos="46353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else State := 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57960" y="4162320"/>
            <a:ext cx="187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30800" y="463860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02520" y="4643280"/>
            <a:ext cx="187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248480" y="5608800"/>
            <a:ext cx="2935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until State=3 or Length=0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64200" y="562140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7040" y="5057640"/>
            <a:ext cx="78372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7040" y="4572000"/>
            <a:ext cx="78372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57160" y="3135240"/>
            <a:ext cx="58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‘ 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B ‘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58040" y="3149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229600" y="3135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72440" y="51213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51040" y="562752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7300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ed for Design Verification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9496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hard to eliminate many design defects just by making process change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lists and a structured review process can improve code-review yiel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reviews with checklists are also helpful, but not sufficien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hecklist item,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“Is module logic correct?”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annot be confirmed by scanning the specification templ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76240" y="844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e Table Discus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98560" y="1654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, carefully check the initial conditions to ensure that they are set </a:t>
            </a:r>
            <a:r>
              <a:rPr b="1" i="1" lang="en-US" sz="2200" spc="-1" strike="noStrike">
                <a:solidFill>
                  <a:srgbClr val="39536b"/>
                </a:solidFill>
                <a:latin typeface="Arial"/>
              </a:rPr>
              <a:t>by the progr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, double-check the trace table for errors and omiss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, after completing each case, check behavior for different parameter val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xample, the State := 3 step for the trace-table case with T trailing spaces, is shown on the next sli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80920" y="830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e Table Example:  Cycle 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12880" y="1549440"/>
            <a:ext cx="7829640" cy="4927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1080" y="196848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11080" y="242568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11080" y="305280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811080" y="354960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11080" y="406404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11080" y="554688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11080" y="604512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83520" y="1606680"/>
            <a:ext cx="30211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ycle T: L = 1, N = 2, T = T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081320" y="1628640"/>
            <a:ext cx="4569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learSpaces(var Input: string; State: int)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5568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7929720" y="1960560"/>
            <a:ext cx="1440" cy="44845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2792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3404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91040" y="1973160"/>
            <a:ext cx="0" cy="45100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95240" y="2058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#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09720" y="257328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96760" y="31194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84160" y="36338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73000" y="4129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85960" y="465624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79480" y="51069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302480" y="2071800"/>
            <a:ext cx="1496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nstructions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41720" y="2065320"/>
            <a:ext cx="1257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99560" y="2071800"/>
            <a:ext cx="748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38000" y="2065320"/>
            <a:ext cx="951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Length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932960" y="2071800"/>
            <a:ext cx="7455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263240" y="2490840"/>
            <a:ext cx="26902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Length := length(Input)</a:t>
            </a:r>
            <a:br>
              <a:rPr sz="1800"/>
            </a:b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tate := 0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143760" y="261144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86760" y="26049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04320" y="2592360"/>
            <a:ext cx="1872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60720" y="3138480"/>
            <a:ext cx="872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repeat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47400" y="3633840"/>
            <a:ext cx="28458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f Input[Length-1] = ‘ ‘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45600" y="4167360"/>
            <a:ext cx="30240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Length := Length - 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03800" y="3639960"/>
            <a:ext cx="7077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251000" y="4643280"/>
            <a:ext cx="36291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if State &lt; 2 State:=State+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60720" y="5113440"/>
            <a:ext cx="2037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else State := 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62880" y="5608800"/>
            <a:ext cx="29358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until State=3 or Length=0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178600" y="5621400"/>
            <a:ext cx="6192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11080" y="505764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11080" y="4572000"/>
            <a:ext cx="78375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164440" y="511020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200280" y="3164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‘ </a:t>
            </a: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B…’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29680" y="31640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286840" y="31496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76240" y="5605560"/>
            <a:ext cx="3142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030320"/>
                <a:tab algn="l" pos="2060640"/>
                <a:tab algn="l" pos="3090960"/>
                <a:tab algn="l" pos="4121280"/>
                <a:tab algn="l" pos="5151600"/>
                <a:tab algn="l" pos="6181560"/>
                <a:tab algn="l" pos="7211880"/>
                <a:tab algn="l" pos="8242200"/>
                <a:tab algn="l" pos="9272520"/>
                <a:tab algn="l" pos="10302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4680" y="83952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Verifying Program Correctn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9172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rrectness verification methods treat programs as mathematical theor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methods are particularly useful during design and design review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cause program verification often involves sophisticated reasoning, it is important to check your work careful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87040" y="8380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rrectness Verification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0180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verify a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all of the program c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each verification question while reviewing each non-trivial constr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the answer is not obvious, use a trace table to evaluate the conditions that the program must satisf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is verification approach works with most design constructs, only “while loops” are described in this lect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ofs for repeat-until and for-loops are described in the textbook (pages 271 - 277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09360" y="8380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ileLoop Verification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91720" y="1641240"/>
            <a:ext cx="7410600" cy="6030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hileLoop is assumed to have the following for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1057320" y="2390760"/>
            <a:ext cx="3711600" cy="123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3240" y="844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ileLoop Verificatio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650960"/>
            <a:ext cx="7099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while-loop is correct if all of the following questions can be answered with “yes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estion 1: Is loop termination guaranteed for any argument of WhileTes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estion 2: When WhileTest is true, does WhileLoop = LoopPart followed by WhileLoop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estion 3: When WhileTest is false, does WhileLoop = identit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4680" y="8380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ileLoop Example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5480" y="1642680"/>
            <a:ext cx="7410600" cy="5317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uming n &gt; 0, calculate n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1533600" y="2411280"/>
            <a:ext cx="3627360" cy="21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03240" y="84276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ileLoop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07560" y="1647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estion 1: Is loop termination guaranteed for any argument of WhileTes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510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es, the loop terminates when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 = n.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Sinc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steps inside the loop, it will terminate as long as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n &gt; 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estion 2: When WhileTest is true, is WhileLoop = LoopPart followed by WhileLoop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510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es, the LoopPart increments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sets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equal to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f * i,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so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still equal to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510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510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: The initial conditions ensure that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f = i!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nitial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01440" y="844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ileLoop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99640" y="16444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estion 3: When WhileTest is false, does WhileLoop = identit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es, when WhileTest is false, the loop terminates without further changes to any variables, so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 = 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 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f = i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nce, we can deduce that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f = n!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requi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06200" y="8996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other WhileLoop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09440" y="1733040"/>
            <a:ext cx="7413480" cy="11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iven a valu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an array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a[0 .. n-1]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that is sorted in ascending order, verify that the following binary search algorithm finds the smallest index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such that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Arial"/>
              </a:rPr>
              <a:t>≤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a[i].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1293840" y="3038400"/>
            <a:ext cx="354312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71200" y="82836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eed for Design Verificatio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improve design-review yield, you must use disciplined verification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orderly approach to design verification is essential beca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y common design defects are caused by overlooked cond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tuations that seem unlikely become more likely with complex systems and high-powered computer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itions that were initially impossible may be likely after a program is modifi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other WhileLoop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88760" y="1550880"/>
            <a:ext cx="7413480" cy="13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formal specification is incomple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should happen if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n = 0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(empty array)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should happen if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 &gt; a[n-1]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can formalize the specification a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08000" y="5057640"/>
            <a:ext cx="74138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 &gt; a[n-1]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 the desired result is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 = n 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1" marL="336600" indent="-20808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n = 0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 the desired result is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 = 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022400" y="3060720"/>
            <a:ext cx="794376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06200" y="9093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other WhileLoop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017360" y="169848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use case checking, we should consider cases whe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equal to the first element of the arra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equal to any intermediate element of the arra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equal to the final element of the arra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not equal to any el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re, we look at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not equal to any el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t the array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= &lt;2, 3, 5, 7&gt; with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= 4 and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= 4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96840" y="90936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hileLoop Trace Tab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901800" y="1498680"/>
          <a:ext cx="7785000" cy="571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1800" y="1498680"/>
                    <a:ext cx="7785000" cy="57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15920" y="90936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Verification Discus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000080" y="1695240"/>
            <a:ext cx="73994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lgorithm fails to terminate for this set of inpu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race table will reveal design defects, but it does not suggest how to fix them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lgorithm correction is to replac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 = k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with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i = k + 1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is change, the next step would be to answer the three WhileLoop questions, with a trace table if necessa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6480" y="909360"/>
            <a:ext cx="76359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ments: Program Ver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02960" y="1711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done correctly, these verification methods can guarantee program correct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stery of these verification methods requires skill and practi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oop termination test is critical because endless loops are hard to identify with other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you can often answer the verification questions by inspection, when in doubt, check the results with a trace tabl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81000" y="9028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ML and Verification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14120" y="171756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aphical designs can be difficult to verify and often require special c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ML diagrams can and should be checked for consistency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ames of all classes, operations, and attributes should also be defined and used consistent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ML state charts can be verified as shown before, but the state and transition conditions must be explic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87120" y="8996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ML and Verificatio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9828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cution in UML sequence diagrams can be traced if the diagrams are sufficiently detail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milarly, every message sent between objects must be supported by a traversable link defined in a class diagr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UML tools can simulate execution of UML models, but these tools should be used only after other review techniq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76240" y="83952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0180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significantly improve your design-review yield by using disciplined design review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complex programs, the time spent verifying designs will be more than repaid by the testing time sav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 using verification techniques and then select the most effective ones for finding the defects that you most commonly find in tes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65080" y="830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enefits of Design Ver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9640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following a structured design verification procedure, you are more likely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e overlooked cond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rarely-exposed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possible future expo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recording information during each design review, you can improve the effectiveness of later design inspe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8254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Design Ver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4960" y="1652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verification methods should be used dur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ing designs with source-code is time-consuming and error-pr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design verification methods to focus on the defect types that cause you the most trouble in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your data to decide which verification methods are most effective for you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0280" y="82548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ymbolic Execution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5040" y="1647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symbolic exec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gram is represented symbolic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behavior is examined analytic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ough not always practical, symbolic execution can produce a comprehensive verific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pproach i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algebraic symbols to the program variab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tate the program as one or more equations using these symbo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e the behavior of the equ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1200" y="8413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ymbolic Executio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7912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questions to ask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es the program converge on a resul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es the program behave properly with both normal and abnormal input valu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es the program always produce the desired resul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1200" y="8190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ymbolic Execution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78040" y="1654200"/>
            <a:ext cx="7410240" cy="5047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the following program seg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4560" y="4235400"/>
            <a:ext cx="7539120" cy="15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would be the result for various values of X and Y ?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ote: This simple example merely illustrates how symbolic execution can reveal non-obvious functionality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25480" y="2293920"/>
            <a:ext cx="5639040" cy="1536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11-07T19:14:57Z</dcterms:modified>
  <cp:revision>178</cp:revision>
  <dc:subject/>
  <dc:title>No Slide Title</dc:title>
</cp:coreProperties>
</file>