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9F5A93B-FF1D-456D-A277-39E45D87830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35BFB0B-B2DB-4397-AEA3-6ADFFD590FBA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55800" y="4486320"/>
            <a:ext cx="523872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ssibly animate this diagram to introduce the pieces one at a time (new reused las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948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0.1 - </a:t>
            </a:r>
            <a:fld id="{4FF5C00D-93AC-4440-955C-0417E4A28A2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0.1 - </a:t>
            </a:r>
            <a:fld id="{D04103E9-DF31-4446-8D17-1E71CA67454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58600" y="178884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"/>
              </a:rPr>
              <a:t>Personal Software Process</a:t>
            </a:r>
            <a:br>
              <a:rPr sz="3100"/>
            </a:br>
            <a:r>
              <a:rPr b="1" lang="en-US" sz="3100" spc="-1" strike="noStrike">
                <a:solidFill>
                  <a:srgbClr val="39536b"/>
                </a:solidFill>
                <a:latin typeface="Arial"/>
              </a:rPr>
              <a:t>for Engineers: Part I</a:t>
            </a:r>
            <a:br>
              <a:rPr sz="4800"/>
            </a:br>
            <a:r>
              <a:rPr b="1" lang="en-US" sz="3600" spc="-1" strike="noStrike">
                <a:solidFill>
                  <a:srgbClr val="39536b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39536b"/>
                </a:solidFill>
                <a:latin typeface="Arial"/>
              </a:rPr>
              <a:t>Tutorial: Using PSP0.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71760" y="181944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.1 Project Plan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SP0.1 adds the Program Size Summary for estimated and actual size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ypes of size inclu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 [B]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leted [D]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dified [M]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ded [A]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used [R]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ded and modified [A+M]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ew reusabl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2489" t="4461" r="5030" b="2732"/>
          <a:stretch/>
        </p:blipFill>
        <p:spPr>
          <a:xfrm>
            <a:off x="4735440" y="1582560"/>
            <a:ext cx="3462480" cy="50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gram Size Type Relationshi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603840" y="2487600"/>
            <a:ext cx="685800" cy="1754280"/>
          </a:xfrm>
          <a:custGeom>
            <a:avLst/>
            <a:gdLst>
              <a:gd name="textAreaLeft" fmla="*/ 0 w 685800"/>
              <a:gd name="textAreaRight" fmla="*/ 247680 w 685800"/>
              <a:gd name="textAreaTop" fmla="*/ 45720 h 1754280"/>
              <a:gd name="textAreaBottom" fmla="*/ 1708560 h 175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404120" y="3022560"/>
            <a:ext cx="120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dded &amp; Modified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54080" y="1714680"/>
            <a:ext cx="231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Base program</a:t>
            </a: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83080" y="1714680"/>
            <a:ext cx="25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New program</a:t>
            </a: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84320" y="2451240"/>
            <a:ext cx="537516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17360" y="1709280"/>
            <a:ext cx="7413480" cy="20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08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09760" indent="-3812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is is an enhancement, measure the size of the base program and enter this in the Base (B) space under Act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09760" indent="-3812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added and modified size and enter this in the Total Added and Modified (A+M) space unde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103480" y="3913200"/>
            <a:ext cx="4917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Development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17360" y="1709280"/>
            <a:ext cx="7413480" cy="13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lanning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estimated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ed time in phase is then calculated based on the percentage of time in phase for all completed proje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98480" y="3247920"/>
            <a:ext cx="570888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rding Siz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360" y="1609560"/>
            <a:ext cx="7413480" cy="21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1472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postmorte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1800" indent="-41472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asure total program size and enter this in the Total Size (T) space under Actual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1800" indent="-41472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nt the deleted size and enter this in the Deleted (D) space under Actual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541800" indent="-41472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unt the modified size and enter this in the Modified (M) space under Actua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12840" y="3884760"/>
            <a:ext cx="491832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cording Siz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0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postmor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 the reused size and enter this in the Reused (R) space under Actual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 or estimate the number of new and changed size that will be added to the reuse library and in the New Reusable space under Act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41640" y="3903840"/>
            <a:ext cx="49179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principal objective is to measure and estimate the size of the programs that you produce so that you can effectively plan and manage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utorial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is tutorial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PSP0.1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how to use the PSP0.1 process scripts and 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epared to use PSP0.1 for program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.1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s of PSP0.1 are to help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the size of the programs that you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form size accounting for the programs that you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ccurate and precise size measu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w Process El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wo new process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improvement proposal (PIP)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counting and coding 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plan summary has been expan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gram Size Summary section has been ad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ed time in phase is calculated based on historical time in phase percent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0.1 Process Script Addi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dditions to the PSP0.1 process scripts include new step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nd reporting softwa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tributing development time over planned projec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a size counting and coding standar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ing process problems and improvement idea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Improvement Proposal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improve your process, you will need to capture process problems and propose improvements for future refer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need to kno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problems you have encountered in using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suggestions you have for process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observations and findings from doing th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Improvement Proposal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3070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You should complete a PIP form for each assign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IP holds process improvement information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blem descrip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posed solu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s and com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5647" r="3147" b="2591"/>
          <a:stretch/>
        </p:blipFill>
        <p:spPr>
          <a:xfrm>
            <a:off x="4297320" y="1743120"/>
            <a:ext cx="433224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ding and Counting Standar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ing and size counting standards are needed to write the PSP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standard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ilored to your language and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ed to make size counting easi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ding standard defines quality-oriented exit criteria for the code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Software Size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, software size measures are us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e the amount of product produced with 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expended to project total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rmaliz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he total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size is measured in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ccurately relate size to effort, the different types of LOC in your program are counted separ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01-03T15:37:53Z</dcterms:modified>
  <cp:revision>140</cp:revision>
  <dc:subject/>
  <dc:title>No Slide Title</dc:title>
</cp:coreProperties>
</file>