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BAEDC12-92A5-4B46-AA14-B583C569A8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96353469-514B-448D-A4DA-6EA4E726D228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FBF0B9-E995-42F0-814A-957A1BD805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1F0F32-2E2E-42FE-8D35-0D7F84521F9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505DFC-330D-49AE-8522-08FBD965BA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5D478A3-03D5-4F8B-8869-BC1C9FEAAA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141CE6C-5BA1-490C-A0C8-1BB9EB6D135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90D2E0-120A-4668-AFB9-265BCED4CF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3496629-43E8-41D2-8F7B-41D92E8A8E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02AD43-E8D9-4BAC-AE23-647D935F39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D66BEBD-B4A8-4CC9-B736-3D7EAF3D75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936800" y="595440"/>
            <a:ext cx="2779560" cy="2084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076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07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07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172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172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076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076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076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17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820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07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17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07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076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076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07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07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172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172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076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076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076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820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07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076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172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076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172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748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596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567480"/>
            <a:ext cx="3657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 Data - </a:t>
            </a:r>
            <a:fld id="{3577C93B-7383-4B86-92A2-93490E24607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82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1300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332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45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78560" y="656748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Using PSP Data - </a:t>
            </a:r>
            <a:fld id="{A877232B-F92E-4ABA-A89C-64837BC6529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360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Using PSP Data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6528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mportance of Period Pla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09720" y="16700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ers focus on project plans, but live in a periodic worl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jects have committed dat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sinesses collect revenue, declare dividends, and pay salari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e all pay monthly bills and collect periodic paychec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e also take time off for weekends and scheduled vaca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relationship between project plans and period plans is the source of most project proble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at is why it is important to use sound methods when making the project schedu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444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hedule Estimating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ake a schedule, you need three thing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d direct project hours for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alendar of available direct hour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rder in which the tasks will be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, you ne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hours needed for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ese task hours over the calendar of available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0144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vailable Direct Hou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85960" y="1641240"/>
            <a:ext cx="737208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ffing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w projects are not instantly staff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need a committed staffing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 calendar spread of available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52 weeks per year and 40 hours per week,              1 year = 2080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3 weeks of vacation and 10 holidays,                   1 year =1880 hours (90%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10% for meetings and 15% for mail and interrupts,  1 year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Arial"/>
              </a:rPr>
              <a:t>≈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1000 to 1400 hours (50 to 65%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tional time is usually spent on project activities that are not related to the direct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776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Ord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90280" y="1645920"/>
            <a:ext cx="76899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ask order is driven by the development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need a conceptual appr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task needs completion criteri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ust consider task interdependenc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so consider cost and cycle-time prior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planned task ord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itial task order provides a basis fo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ask order will change with new knowled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744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duce the Schedu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5960" y="1627200"/>
            <a:ext cx="7905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hours that each task will t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portion of total hours have such tasks taken historicall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ll anything unusual affect this projec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nsure that tasks are not omitted, consider the tasks for the entire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read the task hours over the calenda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key project checkpo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 standard forma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8704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ask Planning Templ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99640" y="16365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task planning template is shown in table 7.2 (page 118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fill out this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t the tasks in expected completion or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estimated hours for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hours in the cumulative hours colum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is point, start to prepare the schedule planning templ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88840" y="8078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hedule Planning Templ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1650960"/>
            <a:ext cx="780588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schedule template is shown in table 7.1 (page 116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tart filling out this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t the calendar dates in the left-hand colum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days or weeks, depending on project sca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days, list every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weeks, use a standard day (for example, Monday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t the planned direct project hours available each wee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hours in the cumulative hours colum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task and schedule templates concurren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8092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ing the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0640" y="1627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on the task template for the cumulative hours needed to complete that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the schedule template, find the week during which those hours are first exc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the task template, enter that week’s date in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Dat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olumn for that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now have the task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74440" y="81252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hedule Planning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4040" y="1346040"/>
            <a:ext cx="821376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4720" y="1692360"/>
            <a:ext cx="80042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 the task planning template, enter the estimated hours per task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17720" y="2165400"/>
          <a:ext cx="7413480" cy="412920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74440" y="8190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hedule Planning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74720" y="1679400"/>
            <a:ext cx="78516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2857680"/>
                <a:tab algn="l" pos="53722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 the schedule planning template, enter the direct hours available per day or week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017720" y="2370240"/>
          <a:ext cx="7413480" cy="392436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43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4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056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erson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ing task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ing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project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job comple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repor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6800" y="1685880"/>
            <a:ext cx="7826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 the task schedule, enter the day (or week) during which the cumulative hours for each task is reached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385920"/>
                <a:tab algn="l" pos="1943280"/>
                <a:tab algn="l" pos="3720960"/>
                <a:tab algn="l" pos="560088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79120" y="8143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hedule Planning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017720" y="2521080"/>
          <a:ext cx="7413480" cy="3773520"/>
        </p:xfrm>
        <a:graphic>
          <a:graphicData uri="http://schemas.openxmlformats.org/drawingml/2006/table">
            <a:tbl>
              <a:tblPr/>
              <a:tblGrid>
                <a:gridCol w="1854000"/>
                <a:gridCol w="1852560"/>
                <a:gridCol w="1854360"/>
                <a:gridCol w="1852560"/>
              </a:tblGrid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8056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tracking would be simple i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always completed tasks in the planned or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tasks were added or dele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never happe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always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s get cancelled or defer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tasks are dropped and others are ad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errors are comm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Tracking -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track project status in a dynamic environment, you need a way to assign a value that measures the contribution of each task towards the whole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 you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up the value of the completed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this value to the value of the total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he percentage of job comple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does this with a method called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earned valu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(EV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6976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0640" y="162720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alue (EV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es a value for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mits progress tracking against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cilitates tracking, even with changes to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alue princip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alue provides a common value for each tas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value is the percentage of the total project hours that this task is planned to tak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ned value is credited, no matter how long it actually took to do the ta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value is given for partially-completed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jor plan changes require new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7444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ablish the Planned Valu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5600" y="1636560"/>
            <a:ext cx="7608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the task templ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number of project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he percentage of the total hours for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is percentage as the planned value (PV) for that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he cumulative PV for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the schedule template, enter the cumulative planned value for the tasks to be completed each day o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762120" y="1701720"/>
            <a:ext cx="75596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r" pos="291960"/>
                <a:tab algn="r" pos="1600200"/>
                <a:tab algn="r" pos="3035160"/>
                <a:tab algn="r" pos="4406760"/>
                <a:tab algn="r" pos="543564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e the PV, or the planned percentage of the total job that each task represents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9760" y="804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8902800" y="3568680"/>
          <a:ext cx="182520" cy="365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017720" y="2506680"/>
          <a:ext cx="7413480" cy="378792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  <a:gridCol w="1235160"/>
                <a:gridCol w="1236600"/>
                <a:gridCol w="1235160"/>
              </a:tblGrid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Hrs.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PV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.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7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6.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94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9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1679400"/>
            <a:ext cx="75596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nter the cumulative planned value for each day (or week)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74440" y="823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ned Value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017720" y="2220840"/>
          <a:ext cx="7413480" cy="4073760"/>
        </p:xfrm>
        <a:graphic>
          <a:graphicData uri="http://schemas.openxmlformats.org/drawingml/2006/table">
            <a:tbl>
              <a:tblPr/>
              <a:tblGrid>
                <a:gridCol w="1854000"/>
                <a:gridCol w="1852560"/>
                <a:gridCol w="1854360"/>
                <a:gridCol w="1852560"/>
              </a:tblGrid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3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2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8236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king the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0800" y="1627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each task is completed, it earns the planned val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earned value (EV) for that ta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er the date on which the task was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EV-to-date in the “Cumulative EV” column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schedule template, enter the cumulative EV for each day or week as it is comple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 earned value versus planned value by day o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71480" y="1693800"/>
            <a:ext cx="7559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the project, enter on the task planning template the day each task is completed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8840" y="8190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king the Plan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017720" y="2425680"/>
          <a:ext cx="7413480" cy="4091040"/>
        </p:xfrm>
        <a:graphic>
          <a:graphicData uri="http://schemas.openxmlformats.org/drawingml/2006/table">
            <a:tbl>
              <a:tblPr/>
              <a:tblGrid>
                <a:gridCol w="1060200"/>
                <a:gridCol w="1057320"/>
                <a:gridCol w="1060560"/>
                <a:gridCol w="1057320"/>
                <a:gridCol w="1060200"/>
                <a:gridCol w="1057320"/>
                <a:gridCol w="1060560"/>
              </a:tblGrid>
              <a:tr h="610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Tas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Hrs.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PV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on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.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73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pt-BR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6.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5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94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6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774720" y="1690560"/>
            <a:ext cx="7559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 the schedule template, enter the earned value (EV) for each day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76240" y="823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king the Plan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017720" y="2508120"/>
          <a:ext cx="7413480" cy="3786480"/>
        </p:xfrm>
        <a:graphic>
          <a:graphicData uri="http://schemas.openxmlformats.org/drawingml/2006/table">
            <a:tbl>
              <a:tblPr/>
              <a:tblGrid>
                <a:gridCol w="1482480"/>
                <a:gridCol w="1482840"/>
                <a:gridCol w="1482840"/>
                <a:gridCol w="1482480"/>
                <a:gridCol w="1482840"/>
              </a:tblGrid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EV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Data in Planning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99640" y="1670040"/>
            <a:ext cx="76503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planning development work, we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task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project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job status against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 job status to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must also manage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to the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plan chan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product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lecture covers the topics of planning and schedule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6976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Job Comple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ume that the project will continue to earn EV at the same rate as in the p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trapolate the time to project completion by extending the EV line until it reaches 100%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the likely project completion date, unl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ate of progress chan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for the remaining tasks deviates from the original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90560" y="1684440"/>
            <a:ext cx="7559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is the actual EV per day?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70120" y="828360"/>
            <a:ext cx="78213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Completion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17720" y="2206800"/>
          <a:ext cx="7413480" cy="384480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  <a:gridCol w="1235160"/>
                <a:gridCol w="1236600"/>
                <a:gridCol w="1235160"/>
              </a:tblGrid>
              <a:tr h="549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EV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Proj. EV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6.7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0.2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6.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.0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"/>
          <p:cNvSpPr/>
          <p:nvPr/>
        </p:nvSpPr>
        <p:spPr>
          <a:xfrm>
            <a:off x="996840" y="6199200"/>
            <a:ext cx="563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en should you expect to finish?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57080" y="1679400"/>
            <a:ext cx="75600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ing the actual EV earned per day (9.72), enter the projected EV by day to project completion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marL="128520" indent="-128520">
              <a:lnSpc>
                <a:spcPct val="90000"/>
              </a:lnSpc>
              <a:buClr>
                <a:srgbClr val="39536b"/>
              </a:buClr>
              <a:buFont typeface="Arial"/>
              <a:buChar char=" 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65080" y="828360"/>
            <a:ext cx="77644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Completion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017720" y="2398680"/>
          <a:ext cx="7413480" cy="3925800"/>
        </p:xfrm>
        <a:graphic>
          <a:graphicData uri="http://schemas.openxmlformats.org/drawingml/2006/table">
            <a:tbl>
              <a:tblPr/>
              <a:tblGrid>
                <a:gridCol w="1234800"/>
                <a:gridCol w="1236960"/>
                <a:gridCol w="1234800"/>
                <a:gridCol w="1235160"/>
                <a:gridCol w="1236600"/>
                <a:gridCol w="1235160"/>
              </a:tblGrid>
              <a:tr h="567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ay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Hours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Hours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Cum. PV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EV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Proj. EV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.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9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6.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8.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0.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8.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6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8.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7.8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7.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97.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.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7120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 Chang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4680" y="162720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track job progress, you must follow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plans always change, you must regularly update the plan so that it represents what you currently plan to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f course, you must always keep copies of the original plan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less the plan differs significantly from the way that you now plan to work, merely add any new tasks and delete the cancelled on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 Chang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04680" y="1636560"/>
            <a:ext cx="76136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tasks reduces the earned value of all of the planned and completed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milarly, deleting tasks increases the earned values of the planned and completed tasks remaining in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TSP support tools will make these EV and PV adjustments for you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major plan changes, you must make a new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30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Reporting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ll team members consistently record their data, TSP teams will know precisely where they sta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can track, manage, and report on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charts show how you can use these data to run a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can use these exact same methods to manage your personal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444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 TSP Weekly Data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17360" y="4219560"/>
            <a:ext cx="7413480" cy="21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ll team members consistently record their data, TSP teams can precisely track and manage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know the planned and actual data for each week and for the project to 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can precisely measure job status and estimate how long it will take to finish the wor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00080" y="1805040"/>
            <a:ext cx="725796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444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estion 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08000" y="4174920"/>
            <a:ext cx="7413840" cy="19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s this team ahead of or behind schedule, and by how much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09800" y="1781280"/>
            <a:ext cx="72579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9352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swer to Question 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07640" y="4201920"/>
            <a:ext cx="7404120" cy="19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s this team ahead of or behind schedule, and by how much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has earned only 22.3 EV against a plan of 28.2 EV, so they are 26.5% behin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the current rate, it will take 1.85 weeks to reach the planned 28.2 EV, so they are 1.85 weeks behind schedu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952560" y="1771560"/>
            <a:ext cx="72579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8380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estion 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22040" y="4155840"/>
            <a:ext cx="741348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is the team behind schedu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61920" y="174312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Personal Data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0640" y="16318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cise and detailed data can help you to manage your personal and team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and customers care abou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will finish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the work will co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of the finished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PSP data, you will know where you stand and can provide regular updates to your managers and custom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352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swer to Question 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8000" y="4156200"/>
            <a:ext cx="7413840" cy="186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is the team behind schedu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though the team is working more than its planned weekly hours, the work is taking 23% longer than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42840" y="179064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7444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estion 3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02960" y="4158720"/>
            <a:ext cx="7413480" cy="19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is rate, can the team members finish on the original plan of 25 weeks?  If not, how late will they b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61920" y="182880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9352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swer to Question 3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31760" y="4195440"/>
            <a:ext cx="7413840" cy="20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this rate, can the team members finish on the original plan of 25 weeks?  If not, how late will they be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has earned EV at 22.3/7 = 3.186 EV/wee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t this rate, it will take (100-22.3)/3.186 = 24.2 more weeks to finish.  This is 6.2 weeks behind the 25-week pla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952560" y="1843200"/>
            <a:ext cx="7257960" cy="221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74440" y="712800"/>
            <a:ext cx="8240760" cy="85392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estion 4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07640" y="4156200"/>
            <a:ext cx="752148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this five-person team meet the original schedule?  If not, what help would they need from management to do so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52560" y="1857240"/>
            <a:ext cx="725796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3800" y="721800"/>
            <a:ext cx="8240760" cy="8542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nswer to Question 4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17360" y="4209840"/>
            <a:ext cx="7621560" cy="21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n this five-person team meet the original schedule?  If not, what help would they need from management to do so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eet the schedule, they need to do 77.7 EV of work in 17 weeks, or 4.57 EV a wee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increase their average EV rate of 3.186 EV a week by 35%, they must work 35% more hours, or add a team membe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61920" y="1752480"/>
            <a:ext cx="7258320" cy="220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6508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 Conclus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2960" y="1660320"/>
            <a:ext cx="7650000" cy="4298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team did increase their task hours somewhat and they also spent less time than planned in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lso reprioritized the work and slightly reduced the total workloa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ctually finished on the exact day originally plan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PSP, you will precisely know job status and will have the data to manage your own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is knowledge, you will usually meet your commi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60400" y="8316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2880" y="16650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PSP, you can accurately plan and track your own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earned value, you can precisely judge job status and estimate the likely project completion d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nformation will permit you to make accurate and timely management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r reports indicate potential problems, you should report recommended remedial a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a self-directed team, you must tell management what you are doing to solve your own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Personal Data -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ll team members use PSP data to plan, manage, and track their personal work, the team can precisely report job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will provide management with the information that they ne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will also reassure the custom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importantly, using data wil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vince management that you can manage your own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management to continue supporting self-directed team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6328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ing Task Plans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0640" y="16318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both individual and team plans, the first step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job’s goals and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strategy for doing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processes to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, you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size of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tasks to be d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effort for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the task or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the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280" y="822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ing Task Plans -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PSP,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re given the goals, strategy, and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d the task order defined by the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d PSP data to estimate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ed the process to do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a team project, the team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 on team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strategy for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process to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 team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teambuilding steps will be described in week 2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63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ing Task Plans -3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99640" y="163188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the team has made the overall plan, the next step is to break it into individual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tasks are assigned to the various team members to plan and to impl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are assigned team tasks, you use the PSP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and plan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your personal process to d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, track, and manage each step of the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works for individuals, whether they work alone or on team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300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heduling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9640" y="164124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you have determined the task order and task time, you can make the project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nvolves both project and period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ject plan consists of the tasks, task times, and task ord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iod planning involves spreading the project tasks over a calendar perio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0-18T16:23:58Z</dcterms:modified>
  <cp:revision>173</cp:revision>
  <dc:subject/>
  <dc:title>No Slide Title</dc:title>
</cp:coreProperties>
</file>