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32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9.png" ContentType="image/png"/>
  <Override PartName="/ppt/media/image4.wmf" ContentType="image/x-wmf"/>
  <Override PartName="/ppt/media/image3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0 - </a:t>
            </a:r>
            <a:fld id="{5C452781-32A6-4DBA-BBD4-67021D98C30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98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0 - </a:t>
            </a:r>
            <a:fld id="{B7DC4B8E-B9A7-4833-ACB6-B363D37628D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28880" y="1965240"/>
            <a:ext cx="634176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Tutorial: Using PSP0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23960" y="195732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yclic Process Flow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Large programs or those that are not well understood may require an iterative approach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this example the design is completed in one step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wo modules are identified during the design, modules A and B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n each module is separately coded, compiled, and test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is example uses the PSP0 phases and two cycles of code-compile-tes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748040" y="179244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yclic Process Flow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re can be more than two cycles and cycles can also include the design phase as in this exampl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e that each cycle is focused on producing part of the program, e.g. Module A, Module B, Module C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art size is a key factor for determining cyc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line of code is too small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program may be too larg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One or more classes, methods, procedures, or functions are probably the right siz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need to determine what works for you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851360" y="1743120"/>
            <a:ext cx="38671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Scrip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s provide “expert-level” guidance on how to use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985320" y="2625480"/>
            <a:ext cx="2581560" cy="30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are one or two pages lo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describe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try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eneral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it criteri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2010" t="28210" r="4020" b="11059"/>
          <a:stretch/>
        </p:blipFill>
        <p:spPr>
          <a:xfrm>
            <a:off x="3684600" y="2637000"/>
            <a:ext cx="4835520" cy="3074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92160" y="2932200"/>
            <a:ext cx="4129200" cy="26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444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0 Script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78040" y="1562040"/>
            <a:ext cx="77644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:  Estimate the developmen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:  Develop the product using your current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tmortem:  Complete the project plan summary with the time spent and defects found and injected in each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8884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0 Script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8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:  Design the program using your current design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ing:  Implement the progra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:  Compile until defect-fre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:  Test the program and fix all def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defects in the defect log and time per phase in the time lo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0400" y="858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Process Scrip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58600" y="1565280"/>
            <a:ext cx="75754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scripts guide you through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the entry criteria before starting a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phase star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the phase steps and instr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defects as they are found and corr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the exit criteria before ending a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the phase end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3286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o to the nex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ce yourself to use this paradigm until it becomes a hab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Measures and For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– track time i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– record defects as they are found and fix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has four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Project Plan Summary – summarizes planned and actual time and defects by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Time Recording Log – used to record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Defect Recording Log – used to record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Defect Type Standard – used to define standard defect typ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tudent Workbook provides support for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ip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ess to class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lso provides support for post-course use of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alling the PSP Student Workbook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reate a folder to hold the contents of the student C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py the contents of the CD to this fold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Assignments MD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Course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Data MDB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Scripts and For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 Student Work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lease not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cel spreadsheet STUn.x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08440" y="1627200"/>
            <a:ext cx="3800520" cy="37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’s in the Fold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SP Assignments MDB – a folder containing backup copy of assignment data used to submit assignments electronicall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SP Course Materials – a folder containing the lectures, assignment kits and tutorials for the cla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SP Data MDB – a folder containing a backup database where you can save your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SP Scripts and Forms – a folder containing the PSP scripts and form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SP Student Workbook – the PSP student workboo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lease notes – release notes for the current version of the PSP student workbook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cel spreadsheet STUn.xls – a spreadsheet for submitting student data to your instructo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SP0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use PSP0 process scripts and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epared to use PSP0 for program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en the PSP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use the PSP Student Workbook you will need Microsoft Access 2002, service pack 3 or abov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0600" y="1654200"/>
            <a:ext cx="3887640" cy="4648320"/>
            <a:chOff x="4800600" y="1654200"/>
            <a:chExt cx="3887640" cy="4648320"/>
          </a:xfrm>
        </p:grpSpPr>
        <p:pic>
          <p:nvPicPr>
            <p:cNvPr id="163" name="" descr=""/>
            <p:cNvPicPr/>
            <p:nvPr/>
          </p:nvPicPr>
          <p:blipFill>
            <a:blip r:embed="rId1"/>
            <a:stretch/>
          </p:blipFill>
          <p:spPr>
            <a:xfrm>
              <a:off x="4800600" y="1654200"/>
              <a:ext cx="3887640" cy="46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 txBox="1"/>
            <p:nvPr/>
          </p:nvSpPr>
          <p:spPr>
            <a:xfrm>
              <a:off x="4800600" y="1654200"/>
              <a:ext cx="3887640" cy="464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rmAutofit/>
            </a:bodyPr>
            <a:p>
              <a:pPr>
                <a:lnSpc>
                  <a:spcPct val="9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284120" y="3035160"/>
            <a:ext cx="2401920" cy="1216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 flipH="1">
            <a:off x="2532240" y="2687760"/>
            <a:ext cx="9360" cy="28548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812960" y="4405320"/>
            <a:ext cx="2803320" cy="1959120"/>
            <a:chOff x="1812960" y="4405320"/>
            <a:chExt cx="2803320" cy="1959120"/>
          </a:xfrm>
        </p:grpSpPr>
        <p:sp>
          <p:nvSpPr>
            <p:cNvPr id="168" name=""/>
            <p:cNvSpPr/>
            <p:nvPr/>
          </p:nvSpPr>
          <p:spPr>
            <a:xfrm>
              <a:off x="1812960" y="4405320"/>
              <a:ext cx="2463840" cy="195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39536b"/>
                  </a:solidFill>
                  <a:latin typeface="Arial"/>
                </a:rPr>
                <a:t>Next, open the PSP Student Workbook. 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0" lang="en-US" sz="1800" spc="-1" strike="noStrike">
                  <a:solidFill>
                    <a:srgbClr val="39536b"/>
                  </a:solidFill>
                  <a:latin typeface="Arial"/>
                </a:rPr>
                <a:t>When it opens you will see the Welcome Form.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24320" y="5776920"/>
              <a:ext cx="291960" cy="0"/>
            </a:xfrm>
            <a:prstGeom prst="line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en the PSP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welcome has three buttons near the bottom of the for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mport your data… is used to import data from a previous version of the workbook when updat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pdate your profile… is used to update your student profil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tinue to projects… takes you to the main for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ick Continue to projects… to create your student profile and open the main for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4800600" y="1654200"/>
            <a:ext cx="38876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e the Student Prof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nter the following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itial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ame of your organization or compan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ame of the lead instructo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nswer the questions under each tab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mployment statu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oftware experie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gramming experie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ducational backgroun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ick Finish…the main PSP Student Workbook form will ope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10613" r="0" b="0"/>
          <a:stretch/>
        </p:blipFill>
        <p:spPr>
          <a:xfrm>
            <a:off x="4792680" y="1693800"/>
            <a:ext cx="37623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Student Workboo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SP student workbook main form provides acces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c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ze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alysis too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ripts/for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rse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511" t="11084" r="3766" b="4708"/>
          <a:stretch/>
        </p:blipFill>
        <p:spPr>
          <a:xfrm>
            <a:off x="3578400" y="2736720"/>
            <a:ext cx="519084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Directo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reate new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lan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lete proj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ort/export data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 projects comple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299120" y="1758960"/>
            <a:ext cx="451800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ort/Expo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17720" y="1650600"/>
            <a:ext cx="3882960" cy="46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Use this form to save and restore data and structure to the backup databa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You can also use this form to submit assignment data to your instructor using one of two options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xport data to the included STUn.XLS file and provide your instructor with a copy of this file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reate an assignment submission file for use with the SEI blended learning system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You can also use this form to import data when upgrading to a newer version of the PSP Student Workbook.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05280" y="2017800"/>
            <a:ext cx="397080" cy="228600"/>
          </a:xfrm>
          <a:prstGeom prst="line">
            <a:avLst/>
          </a:prstGeom>
          <a:ln w="28440">
            <a:solidFill>
              <a:srgbClr val="9c21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89520" y="3836880"/>
            <a:ext cx="417600" cy="0"/>
          </a:xfrm>
          <a:prstGeom prst="line">
            <a:avLst/>
          </a:prstGeom>
          <a:ln w="28440">
            <a:solidFill>
              <a:srgbClr val="9c21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844880" y="5322600"/>
            <a:ext cx="438480" cy="198360"/>
          </a:xfrm>
          <a:prstGeom prst="line">
            <a:avLst/>
          </a:prstGeom>
          <a:ln w="28440">
            <a:solidFill>
              <a:srgbClr val="9c21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8643" r="5848" b="24494"/>
          <a:stretch/>
        </p:blipFill>
        <p:spPr>
          <a:xfrm>
            <a:off x="5473800" y="1619280"/>
            <a:ext cx="345744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Directo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reate new proc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proc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lete proces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rcRect l="1457" t="7374" r="2614" b="7707"/>
          <a:stretch/>
        </p:blipFill>
        <p:spPr>
          <a:xfrm>
            <a:off x="3917880" y="1784520"/>
            <a:ext cx="45990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reate new size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 size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lete size meas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1878" t="7731" r="3803" b="5842"/>
          <a:stretch/>
        </p:blipFill>
        <p:spPr>
          <a:xfrm>
            <a:off x="4022640" y="1743120"/>
            <a:ext cx="44625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alysis Too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 analyze your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alysis tools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program siz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imation erro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any of the 42 hyperlinks to open the corresponding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2665" t="6784" r="4197" b="7284"/>
          <a:stretch/>
        </p:blipFill>
        <p:spPr>
          <a:xfrm>
            <a:off x="4024440" y="1716120"/>
            <a:ext cx="45082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ripts/For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 open the word document(s) containing the PSP scripts and for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7284" r="3063" b="8733"/>
          <a:stretch/>
        </p:blipFill>
        <p:spPr>
          <a:xfrm>
            <a:off x="3844800" y="1760400"/>
            <a:ext cx="463896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fore You Begi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no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h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for writing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a process for learning abou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’s the process equivalent of a code samp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works so well for some students that they can use it on the job, but that’s not its intended purpo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you’ve completed the course you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PSP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your experience and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ilor the PSP to meet your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Materi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29541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is tab to open the course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ick on a hyperlink to open the docu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1878" t="7284" r="3063" b="7231"/>
          <a:stretch/>
        </p:blipFill>
        <p:spPr>
          <a:xfrm>
            <a:off x="3954600" y="1746360"/>
            <a:ext cx="4529160" cy="32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ack to the Project Director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re are eight assignments in the cours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ach assignment is a proj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execute an assignment you will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open the corresponding proj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se the forms provided to plan i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 it using the time log and defect log for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duct a postmortem when the project is finish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rk it complete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761000" y="175896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ack to the Project Director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roject directory displays th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na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tart dat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leted dat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leted checkma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e…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course assignment projects must be completed in or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names of these projects should not be chang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9c2108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9c2108"/>
                </a:solidFill>
                <a:latin typeface="Arial"/>
              </a:rPr>
              <a:t>Mark them complete only when you’re absolutely certain that you’ve entered all data correctly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730760" y="1819440"/>
            <a:ext cx="36306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Getting Started: Opening a Projec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elect the first project, Program 1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ick the record selecto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ick a field in the recor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lick the Open Project butto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7767" r="4199" b="32337"/>
          <a:stretch/>
        </p:blipFill>
        <p:spPr>
          <a:xfrm>
            <a:off x="4633920" y="1569960"/>
            <a:ext cx="3994200" cy="19684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444920" y="3495600"/>
            <a:ext cx="1200240" cy="206280"/>
          </a:xfrm>
          <a:prstGeom prst="rect">
            <a:avLst/>
          </a:prstGeom>
          <a:solidFill>
            <a:srgbClr val="87abb9"/>
          </a:solidFill>
          <a:ln w="0">
            <a:noFill/>
          </a:ln>
          <a:effectLst>
            <a:outerShdw dist="153753" dir="2700000" blurRad="0" rotWithShape="0">
              <a:srgbClr val="506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cord selector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cxnSp>
        <p:nvCxnSpPr>
          <p:cNvPr id="213" name=""/>
          <p:cNvCxnSpPr>
            <a:stCxn id="212" idx="1"/>
            <a:endCxn id="214" idx="0"/>
          </p:cNvCxnSpPr>
          <p:nvPr/>
        </p:nvCxnSpPr>
        <p:spPr>
          <a:xfrm flipH="1" rot="10800000">
            <a:off x="4443840" y="2615400"/>
            <a:ext cx="337320" cy="983520"/>
          </a:xfrm>
          <a:prstGeom prst="curvedConnector5">
            <a:avLst>
              <a:gd name="adj1" fmla="val -67841"/>
              <a:gd name="adj2" fmla="val 49981"/>
              <a:gd name="adj3" fmla="val -67841"/>
            </a:avLst>
          </a:prstGeom>
          <a:ln w="9360">
            <a:solidFill>
              <a:srgbClr val="39536b"/>
            </a:solidFill>
            <a:miter/>
          </a:ln>
        </p:spPr>
      </p:cxnSp>
      <p:sp>
        <p:nvSpPr>
          <p:cNvPr id="215" name=""/>
          <p:cNvSpPr/>
          <p:nvPr/>
        </p:nvSpPr>
        <p:spPr>
          <a:xfrm>
            <a:off x="6248520" y="3438360"/>
            <a:ext cx="463320" cy="206640"/>
          </a:xfrm>
          <a:prstGeom prst="rect">
            <a:avLst/>
          </a:prstGeom>
          <a:solidFill>
            <a:srgbClr val="87abb9"/>
          </a:solidFill>
          <a:ln w="0">
            <a:noFill/>
          </a:ln>
          <a:effectLst>
            <a:outerShdw dist="153753" dir="2700000" blurRad="0" rotWithShape="0">
              <a:srgbClr val="506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Field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5" idx="1"/>
            <a:endCxn id="217" idx="0"/>
          </p:cNvCxnSpPr>
          <p:nvPr/>
        </p:nvCxnSpPr>
        <p:spPr>
          <a:xfrm rot="10800000">
            <a:off x="5123880" y="2748960"/>
            <a:ext cx="1124640" cy="792720"/>
          </a:xfrm>
          <a:prstGeom prst="curvedConnector2">
            <a:avLst/>
          </a:prstGeom>
          <a:ln w="9360">
            <a:solidFill>
              <a:srgbClr val="39536b"/>
            </a:solidFill>
            <a:miter/>
          </a:ln>
        </p:spPr>
      </p:cxnSp>
      <p:sp>
        <p:nvSpPr>
          <p:cNvPr id="214" name=""/>
          <p:cNvSpPr/>
          <p:nvPr/>
        </p:nvSpPr>
        <p:spPr>
          <a:xfrm>
            <a:off x="4781520" y="2571840"/>
            <a:ext cx="88920" cy="88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7abb9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79960" y="266076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abb9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46960" y="3425760"/>
            <a:ext cx="1012680" cy="206280"/>
          </a:xfrm>
          <a:prstGeom prst="rect">
            <a:avLst/>
          </a:prstGeom>
          <a:solidFill>
            <a:srgbClr val="87abb9"/>
          </a:solidFill>
          <a:ln w="0">
            <a:noFill/>
          </a:ln>
          <a:effectLst>
            <a:outerShdw dist="153753" dir="2700000" blurRad="0" rotWithShape="0">
              <a:srgbClr val="5066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Open project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78480" y="2422440"/>
            <a:ext cx="88920" cy="88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7abb9"/>
          </a:solidFill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8" idx="1"/>
            <a:endCxn id="219" idx="0"/>
          </p:cNvCxnSpPr>
          <p:nvPr/>
        </p:nvCxnSpPr>
        <p:spPr>
          <a:xfrm rot="10800000">
            <a:off x="6422400" y="2510640"/>
            <a:ext cx="1024560" cy="1018440"/>
          </a:xfrm>
          <a:prstGeom prst="curvedConnector2">
            <a:avLst/>
          </a:prstGeom>
          <a:ln w="9360">
            <a:solidFill>
              <a:srgbClr val="39536b"/>
            </a:solidFill>
            <a:miter/>
          </a:ln>
        </p:spPr>
      </p:cxnSp>
      <p:sp>
        <p:nvSpPr>
          <p:cNvPr id="221" name=""/>
          <p:cNvSpPr/>
          <p:nvPr/>
        </p:nvSpPr>
        <p:spPr>
          <a:xfrm>
            <a:off x="1022400" y="3857760"/>
            <a:ext cx="3630600" cy="251928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39536b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Move to next field in form…&lt;tab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Move to prior field in form… &lt;shift&gt;&lt;tab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Move to next subform within a form… &lt;ctrl&gt;&lt;tab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Move to prior subform within a form… &lt;ctrl&gt;&lt;shift&gt;&lt;tab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Delete field contents when selected… &lt;del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Undo delete field… &lt;esc&gt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Enter current date…&lt;ctrl&gt;;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Enter current time… &lt;ctrl&gt;: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Enter copy of field from same field in previous record… &lt;ctrl&gt;”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29760" indent="-21744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941720" y="3857760"/>
            <a:ext cx="3630960" cy="2519280"/>
          </a:xfrm>
          <a:prstGeom prst="rect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200" spc="-1" strike="noStrike" u="sng">
                <a:solidFill>
                  <a:srgbClr val="39536b"/>
                </a:solidFill>
                <a:uFillTx/>
                <a:latin typeface="Arial"/>
              </a:rPr>
              <a:t>UI Facts and Shortcuts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Delete record… click record selector and &lt;del&gt; or use provided button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Selected record… an arrow in the record selector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Editing record or starting new record… a pencil in the record selector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Undo edit or new record… hit esc until pencil disappears.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ening a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SP uses historical data as an aid to planning, you will learn more about this during the cla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historical data are data from completed projec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iz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en you open a project, a summary snapshot of this data is created and stored with the proj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s to data on earlier projects will not affect a later project after it has been open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0240" y="4352760"/>
            <a:ext cx="3630600" cy="19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1600" spc="-1" strike="noStrike">
                <a:solidFill>
                  <a:srgbClr val="39536b"/>
                </a:solidFill>
                <a:latin typeface="Arial"/>
              </a:rPr>
              <a:t>NOTE: The Replan Project button will recalculate the historical data for the selected project using data from all projects that were completed before the selected project started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99160" y="1677960"/>
            <a:ext cx="3630600" cy="2543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flipV="1">
            <a:off x="6572160" y="2502000"/>
            <a:ext cx="160560" cy="185904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Form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3141360" cy="16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is is the PSP0 Project Plan Summar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open the other PSP0 forms click PSP0 Forms… on the PSP0 menu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rcRect l="2405" t="11819" r="47330" b="14339"/>
          <a:stretch/>
        </p:blipFill>
        <p:spPr>
          <a:xfrm>
            <a:off x="4305240" y="1521000"/>
            <a:ext cx="4378320" cy="48243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rcRect l="38490" t="25107" r="48189" b="63610"/>
          <a:stretch/>
        </p:blipFill>
        <p:spPr>
          <a:xfrm>
            <a:off x="1233360" y="3441600"/>
            <a:ext cx="2370240" cy="15066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047600" y="5108400"/>
            <a:ext cx="2988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elect the form to open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ime Log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 Log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 Type Standard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Form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049400" y="1600200"/>
            <a:ext cx="3630600" cy="3355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772160" y="1593720"/>
            <a:ext cx="3744720" cy="34718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029040" y="3249720"/>
            <a:ext cx="3348000" cy="32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Time Recording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413480" cy="2027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hase: Select the phase on which you were work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: Enter the date and time you started working. Double click to enter the current date and time or type &lt;ctrl&gt;;&lt;space&gt;&lt;ctrl&gt;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.: Enter any interruption time in minu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rcRect l="0" t="14249" r="570" b="54088"/>
          <a:stretch/>
        </p:blipFill>
        <p:spPr>
          <a:xfrm>
            <a:off x="1117440" y="3927600"/>
            <a:ext cx="733428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Time Recording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50120" cy="3378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op: Enter the date and time you stop working. Double click to enter the current date and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lta Time: The delta time is calculated automatical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ments:  Use to describe any interruption, the task you were doing or anything else that significantly affects your wor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0" t="13657" r="570" b="54359"/>
          <a:stretch/>
        </p:blipFill>
        <p:spPr>
          <a:xfrm>
            <a:off x="1120680" y="4157640"/>
            <a:ext cx="7266240" cy="225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ype:  Select the defect typ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ate: Enter the date the defect was found. Double-click to enter the current da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hase Injected:  Select or enter the phase during which you judge the defect was inject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hase Removed:  Enter the phase during which you found and fixed the def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Proces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 is a simple, defined,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current design and development methods to produce a small progr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time and defect data on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a summary repor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cording Lo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ix time:  Enter the time that you took both to find and fix the defect.  You may time it exactly, or use your best judg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ix defect:  If this defect was injected while fixing another defect, enter the number of that def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cription:  Enter explanation of what the defect was (not the symptom, but the defect!)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rcRect l="571" t="16949" r="2845" b="51511"/>
          <a:stretch/>
        </p:blipFill>
        <p:spPr>
          <a:xfrm>
            <a:off x="1139760" y="4243320"/>
            <a:ext cx="6961320" cy="227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Type Standar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type standard provides a general set of defect catego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you may add items or replace this standard with your own, it is generally wise to stick with these simple definitions until you have data to guide your ch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080" y="556272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87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rcRect l="0" t="6098" r="0" b="71631"/>
          <a:stretch/>
        </p:blipFill>
        <p:spPr>
          <a:xfrm>
            <a:off x="1015920" y="3984480"/>
            <a:ext cx="7283520" cy="221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3193920" cy="887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nter your best estimate of the total time that the development will tak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10853" r="9551" b="4288"/>
          <a:stretch/>
        </p:blipFill>
        <p:spPr>
          <a:xfrm>
            <a:off x="4417920" y="1652760"/>
            <a:ext cx="4029120" cy="48114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rcRect l="3975" t="46697" r="68124" b="50489"/>
          <a:stretch/>
        </p:blipFill>
        <p:spPr>
          <a:xfrm>
            <a:off x="1100160" y="2724120"/>
            <a:ext cx="3046320" cy="3920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096920" y="3340080"/>
            <a:ext cx="3121200" cy="28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remaining items are calculated automatically.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ime in phas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tim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Date tim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Date % tim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fects injected and removed in phas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ctual defect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Date defect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Date % defect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lan Summary Upd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ing with version 20061007, all fields that the student enters data in are formatted as show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4747" t="47352" r="42304" b="15388"/>
          <a:stretch/>
        </p:blipFill>
        <p:spPr>
          <a:xfrm>
            <a:off x="5114880" y="1743120"/>
            <a:ext cx="3328920" cy="18064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4692600" y="2481120"/>
            <a:ext cx="1727280" cy="82260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a PSP Project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project, e.g. Assignment 1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ter a date in the completed fields or click the completed checkbox to enter today’s d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0" t="7451" r="3368" b="45714"/>
          <a:stretch/>
        </p:blipFill>
        <p:spPr>
          <a:xfrm>
            <a:off x="914400" y="3201840"/>
            <a:ext cx="7405560" cy="28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a PSP Project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me notes on completing a project…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ach project’s plan is based on historical data from prior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a project is first opened, it takes a snapshot of the current historical data for use in plann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se data are in error, the plan will be in erro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the limited data available in the course, projects are prevented from being opened until the prior project is comple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must still do your part and make sure that the project data are complete and self-consistent before marking a project comple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you’re not sure that your data are right, don’t guess…check the text or ask an instructo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ome Common Err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are common errors students m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tracking time in planning and postmor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kipping phases or executing phases out of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mitting some defects found in compile or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getting to record the measured actual size of programs developed (PSP1.x and abov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fusing phases with activity, e.g. counting time spent re-designing or re-coding during test as design time or coding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xt few slides address some specific problems with time and defect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Fix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fix time is often misundersto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the time taken both to find and fix the de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5    run compiler on p1a.c, “line 23 - type mismatch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6    run editor on p1a.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15    change declaration on line 6 from integer to re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16    run compiler on p1a.c, “no errors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: What is the defect fix ti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: 10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Phase Inject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he injected phase for a defect depends on the phase the program is in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Example: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om finds a major logic error in his program during test. He has to redesign and code part of his program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: What phase is Tom’s program in?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om finds a defect in the new code he has written. 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Q: In what PSP phase was the defect injected?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: Tes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162400" y="1697040"/>
            <a:ext cx="30276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Measurement in the Cyclic Proces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sidera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clude a program part identifier in the notes field on time log entri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dd a similar annotation to defect log entri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se “Test” as the phase removed when defects are found in a previously tested par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ampl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m finds and fixes an interface error in part A of his program while coding part B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Q: In what PSP phase was this defect removed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: Tes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843440" y="1801800"/>
            <a:ext cx="385776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Obj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for PSP0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the use of a defined process in writing small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basic measurements in the software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 minimal changes to your personal practi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asurement Hi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record data on your process as you work, not afterwards.  If you forget, promptly make your best gu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ecise and 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time in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 every de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be using your own data to manage your process; gather data that is worthy of your tru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using PSP0, your principal objective is to learn to gather and report accurate and complete data on your work.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have completed this course, you will know how to adjust and extend the PSP to meet your future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til then, make your best effort to follow the PSP process scripts and instru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Process Phas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0 has six pha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lanning – produces a plan for developing the program defined by the require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– produces a design specification for the program defined by the require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ing – transforms the design specification into programming language state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067440" y="2454120"/>
            <a:ext cx="9525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 Process Phas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ile – translates the programming language statements into executable cod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st – verifies that the executable code satisfies the require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ostmortem – summarizes and analyzes the projec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10360" y="1886040"/>
            <a:ext cx="140976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hase Ord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SP looks like a waterfall process but it’s no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hase order is determined by the dependencies between phases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can’t test the code before it’s compil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can’t compile the code before it’s writte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can’t use the design if it’s produced after the code is writte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re’s no reason to make a plan after you’re don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nclusion…start here with a pla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707160" y="5324400"/>
            <a:ext cx="914400" cy="457200"/>
            <a:chOff x="6707160" y="5324400"/>
            <a:chExt cx="914400" cy="457200"/>
          </a:xfrm>
        </p:grpSpPr>
        <p:sp>
          <p:nvSpPr>
            <p:cNvPr id="107" name="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07160" y="53244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2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2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6950160" y="5432400"/>
            <a:ext cx="50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Plan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6708600" y="4443480"/>
            <a:ext cx="914400" cy="457200"/>
            <a:chOff x="6708600" y="4443480"/>
            <a:chExt cx="914400" cy="457200"/>
          </a:xfrm>
        </p:grpSpPr>
        <p:sp>
          <p:nvSpPr>
            <p:cNvPr id="111" name="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708600" y="4443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828120" y="4551480"/>
            <a:ext cx="74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6707160" y="3564000"/>
            <a:ext cx="914400" cy="457200"/>
            <a:chOff x="6707160" y="3564000"/>
            <a:chExt cx="914400" cy="457200"/>
          </a:xfrm>
        </p:grpSpPr>
        <p:sp>
          <p:nvSpPr>
            <p:cNvPr id="115" name="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707160" y="356400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2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2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910560" y="3670200"/>
            <a:ext cx="57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d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708600" y="2684520"/>
            <a:ext cx="914400" cy="457200"/>
            <a:chOff x="6708600" y="2684520"/>
            <a:chExt cx="914400" cy="457200"/>
          </a:xfrm>
        </p:grpSpPr>
        <p:sp>
          <p:nvSpPr>
            <p:cNvPr id="119" name="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8600" y="268452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8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8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767280" y="2792520"/>
            <a:ext cx="870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Compil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708600" y="1806480"/>
            <a:ext cx="914400" cy="457200"/>
            <a:chOff x="6708600" y="1806480"/>
            <a:chExt cx="914400" cy="457200"/>
          </a:xfrm>
        </p:grpSpPr>
        <p:sp>
          <p:nvSpPr>
            <p:cNvPr id="123" name="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08600" y="1806480"/>
              <a:ext cx="914400" cy="457200"/>
            </a:xfrm>
            <a:custGeom>
              <a:avLst/>
              <a:gdLst/>
              <a:ahLst/>
              <a:rect l="l" t="t" r="r" b="b"/>
              <a:pathLst>
                <a:path w="2400" h="1200">
                  <a:moveTo>
                    <a:pt x="150" y="0"/>
                  </a:moveTo>
                  <a:cubicBezTo>
                    <a:pt x="67" y="0"/>
                    <a:pt x="0" y="67"/>
                    <a:pt x="0" y="150"/>
                  </a:cubicBezTo>
                  <a:lnTo>
                    <a:pt x="0" y="1050"/>
                  </a:lnTo>
                  <a:cubicBezTo>
                    <a:pt x="0" y="1133"/>
                    <a:pt x="67" y="1200"/>
                    <a:pt x="150" y="1200"/>
                  </a:cubicBezTo>
                  <a:lnTo>
                    <a:pt x="2250" y="1200"/>
                  </a:lnTo>
                  <a:cubicBezTo>
                    <a:pt x="2333" y="1200"/>
                    <a:pt x="2400" y="1133"/>
                    <a:pt x="2400" y="1050"/>
                  </a:cubicBezTo>
                  <a:lnTo>
                    <a:pt x="2400" y="150"/>
                  </a:lnTo>
                  <a:cubicBezTo>
                    <a:pt x="2400" y="67"/>
                    <a:pt x="2333" y="0"/>
                    <a:pt x="2250" y="0"/>
                  </a:cubicBezTo>
                  <a:lnTo>
                    <a:pt x="150" y="0"/>
                  </a:lnTo>
                  <a:close/>
                </a:path>
              </a:pathLst>
            </a:custGeom>
            <a:noFill/>
            <a:ln cap="rnd" w="25560">
              <a:solidFill>
                <a:srgbClr val="efede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956640" y="1913040"/>
            <a:ext cx="48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efed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fede5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128000" y="4913280"/>
            <a:ext cx="75960" cy="405000"/>
          </a:xfrm>
          <a:custGeom>
            <a:avLst/>
            <a:gdLst/>
            <a:ahLst/>
            <a:rect l="l" t="t" r="r" b="b"/>
            <a:pathLst>
              <a:path w="200" h="1063">
                <a:moveTo>
                  <a:pt x="80" y="1046"/>
                </a:moveTo>
                <a:lnTo>
                  <a:pt x="83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1"/>
                  <a:pt x="117" y="158"/>
                  <a:pt x="117" y="167"/>
                </a:cubicBezTo>
                <a:lnTo>
                  <a:pt x="113" y="1046"/>
                </a:lnTo>
                <a:cubicBezTo>
                  <a:pt x="113" y="1056"/>
                  <a:pt x="106" y="1063"/>
                  <a:pt x="97" y="1063"/>
                </a:cubicBezTo>
                <a:cubicBezTo>
                  <a:pt x="87" y="1063"/>
                  <a:pt x="80" y="1055"/>
                  <a:pt x="80" y="1046"/>
                </a:cubicBezTo>
                <a:close/>
                <a:moveTo>
                  <a:pt x="0" y="200"/>
                </a:moveTo>
                <a:lnTo>
                  <a:pt x="101" y="0"/>
                </a:lnTo>
                <a:lnTo>
                  <a:pt x="200" y="201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26200" y="4033800"/>
            <a:ext cx="76320" cy="4032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7" y="1042"/>
                </a:moveTo>
                <a:lnTo>
                  <a:pt x="84" y="167"/>
                </a:lnTo>
                <a:cubicBezTo>
                  <a:pt x="84" y="158"/>
                  <a:pt x="91" y="150"/>
                  <a:pt x="100" y="150"/>
                </a:cubicBezTo>
                <a:cubicBezTo>
                  <a:pt x="109" y="150"/>
                  <a:pt x="117" y="158"/>
                  <a:pt x="117" y="167"/>
                </a:cubicBezTo>
                <a:lnTo>
                  <a:pt x="120" y="1042"/>
                </a:lnTo>
                <a:cubicBezTo>
                  <a:pt x="121" y="1051"/>
                  <a:pt x="113" y="1058"/>
                  <a:pt x="104" y="1058"/>
                </a:cubicBezTo>
                <a:cubicBezTo>
                  <a:pt x="95" y="1059"/>
                  <a:pt x="87" y="1051"/>
                  <a:pt x="87" y="1042"/>
                </a:cubicBezTo>
                <a:close/>
                <a:moveTo>
                  <a:pt x="0" y="201"/>
                </a:moveTo>
                <a:lnTo>
                  <a:pt x="100" y="0"/>
                </a:lnTo>
                <a:lnTo>
                  <a:pt x="200" y="200"/>
                </a:lnTo>
                <a:lnTo>
                  <a:pt x="0" y="201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28000" y="3156120"/>
            <a:ext cx="75960" cy="401400"/>
          </a:xfrm>
          <a:custGeom>
            <a:avLst/>
            <a:gdLst/>
            <a:ahLst/>
            <a:rect l="l" t="t" r="r" b="b"/>
            <a:pathLst>
              <a:path w="200" h="1058">
                <a:moveTo>
                  <a:pt x="80" y="1041"/>
                </a:moveTo>
                <a:lnTo>
                  <a:pt x="83" y="166"/>
                </a:lnTo>
                <a:cubicBezTo>
                  <a:pt x="84" y="157"/>
                  <a:pt x="91" y="150"/>
                  <a:pt x="100" y="150"/>
                </a:cubicBezTo>
                <a:cubicBezTo>
                  <a:pt x="109" y="150"/>
                  <a:pt x="117" y="157"/>
                  <a:pt x="117" y="167"/>
                </a:cubicBezTo>
                <a:lnTo>
                  <a:pt x="113" y="1042"/>
                </a:lnTo>
                <a:cubicBezTo>
                  <a:pt x="113" y="1051"/>
                  <a:pt x="106" y="1058"/>
                  <a:pt x="97" y="1058"/>
                </a:cubicBezTo>
                <a:cubicBezTo>
                  <a:pt x="87" y="1058"/>
                  <a:pt x="80" y="1051"/>
                  <a:pt x="80" y="1041"/>
                </a:cubicBezTo>
                <a:close/>
                <a:moveTo>
                  <a:pt x="0" y="199"/>
                </a:moveTo>
                <a:lnTo>
                  <a:pt x="101" y="0"/>
                </a:lnTo>
                <a:lnTo>
                  <a:pt x="200" y="200"/>
                </a:lnTo>
                <a:lnTo>
                  <a:pt x="0" y="199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28000" y="2274840"/>
            <a:ext cx="75960" cy="405000"/>
          </a:xfrm>
          <a:custGeom>
            <a:avLst/>
            <a:gdLst/>
            <a:ahLst/>
            <a:rect l="l" t="t" r="r" b="b"/>
            <a:pathLst>
              <a:path w="200" h="1059">
                <a:moveTo>
                  <a:pt x="83" y="1042"/>
                </a:moveTo>
                <a:lnTo>
                  <a:pt x="83" y="167"/>
                </a:lnTo>
                <a:cubicBezTo>
                  <a:pt x="83" y="158"/>
                  <a:pt x="91" y="150"/>
                  <a:pt x="100" y="150"/>
                </a:cubicBezTo>
                <a:cubicBezTo>
                  <a:pt x="109" y="150"/>
                  <a:pt x="116" y="158"/>
                  <a:pt x="116" y="167"/>
                </a:cubicBezTo>
                <a:lnTo>
                  <a:pt x="116" y="1042"/>
                </a:lnTo>
                <a:cubicBezTo>
                  <a:pt x="116" y="1051"/>
                  <a:pt x="109" y="1059"/>
                  <a:pt x="100" y="1059"/>
                </a:cubicBezTo>
                <a:cubicBezTo>
                  <a:pt x="91" y="1059"/>
                  <a:pt x="83" y="1051"/>
                  <a:pt x="83" y="1042"/>
                </a:cubicBezTo>
                <a:close/>
                <a:moveTo>
                  <a:pt x="0" y="200"/>
                </a:moveTo>
                <a:lnTo>
                  <a:pt x="100" y="0"/>
                </a:lnTo>
                <a:lnTo>
                  <a:pt x="200" y="200"/>
                </a:lnTo>
                <a:lnTo>
                  <a:pt x="0" y="200"/>
                </a:lnTo>
                <a:close/>
              </a:path>
            </a:pathLst>
          </a:custGeom>
          <a:solidFill>
            <a:srgbClr val="39536b"/>
          </a:solidFill>
          <a:ln w="1440">
            <a:solidFill>
              <a:srgbClr val="39536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538520" y="5564160"/>
            <a:ext cx="2079720" cy="411120"/>
          </a:xfrm>
          <a:prstGeom prst="line">
            <a:avLst/>
          </a:prstGeom>
          <a:ln w="2844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Flo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en programs are small or well understood, you can execute the phases in or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duce a pla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ign all modu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de all modu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mpile the coded progra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85000"/>
              </a:lnSpc>
              <a:spcAft>
                <a:spcPts val="113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ummarize the project data during the postmorte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141880" y="1779480"/>
            <a:ext cx="3127320" cy="43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23T13:17:25Z</dcterms:modified>
  <cp:revision>163</cp:revision>
  <dc:subject/>
  <dc:title>No Slide Title</dc:title>
</cp:coreProperties>
</file>