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2BB8F9E-2C5A-4F70-A828-9697D6D9D7B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0CAE2D40-A3EE-469D-8CE2-5FF1C53ACC58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598320" y="2887200"/>
            <a:ext cx="5964480" cy="5978520"/>
          </a:xfrm>
          <a:prstGeom prst="rect">
            <a:avLst/>
          </a:prstGeom>
          <a:noFill/>
          <a:ln w="25560">
            <a:solidFill>
              <a:srgbClr val="000000"/>
            </a:solidFill>
            <a:prstDash val="sysDot"/>
            <a:miter/>
          </a:ln>
        </p:spPr>
        <p:txBody>
          <a:bodyPr lIns="96120" rIns="96120" tIns="48960" bIns="489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scribe the steps in the PROBE meth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ldImg"/>
          </p:nvPr>
        </p:nvSpPr>
        <p:spPr>
          <a:xfrm>
            <a:off x="2028960" y="623880"/>
            <a:ext cx="2869920" cy="21528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02960" y="40370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2040" y="16380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02960" y="40370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02040" y="40370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163800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5960" y="163800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02960" y="40370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40370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5960" y="40370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029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02040" y="163800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48960" y="91872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02040" y="163800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2960" y="40370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029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02040" y="16380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02040" y="40370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2040" y="16380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02960" y="40370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02960" y="40370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02040" y="16380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02960" y="40370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02040" y="40370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9640" y="163800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960" y="163800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02960" y="40370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09640" y="40370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960" y="40370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02040" y="163800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48960" y="91872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02040" y="163800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02960" y="40370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02040" y="16380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02040" y="40370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02040" y="16380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02960" y="40370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029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720" y="6566040"/>
            <a:ext cx="2435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245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Using PSP1 - </a:t>
            </a:r>
            <a:fld id="{05A9F4DC-0E80-482A-BE83-B0F82C22A983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Using PSP1 - </a:t>
            </a:r>
            <a:fld id="{9A74818A-B5EE-4D23-B9B0-31204B89C5AB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28520"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465120" algn="ctr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3701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4" marL="18255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5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6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42760" y="1746000"/>
            <a:ext cx="805644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"/>
              </a:rPr>
              <a:t>Personal Software Process</a:t>
            </a:r>
            <a:br>
              <a:rPr sz="3100"/>
            </a:br>
            <a:r>
              <a:rPr b="1" lang="en-US" sz="3100" spc="-1" strike="noStrike">
                <a:solidFill>
                  <a:srgbClr val="39536b"/>
                </a:solidFill>
                <a:latin typeface="Arial"/>
              </a:rPr>
              <a:t>for Engineers: Part I</a:t>
            </a:r>
            <a:br>
              <a:rPr sz="3100"/>
            </a:br>
            <a:r>
              <a:rPr b="1" lang="en-US" sz="3600" spc="-1" strike="noStrike">
                <a:solidFill>
                  <a:srgbClr val="39536b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9536b"/>
                </a:solidFill>
                <a:latin typeface="Arial"/>
              </a:rPr>
              <a:t>Tutorial: Using PSP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81480" y="176364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2108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nceptual Desig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ceptual design relates the requirements to the parts needed to produce the progr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arts needed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 parts – an existing part that can be used but will require modific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ed parts – new parts that need to be develop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used parts – an existing part that can be used as-i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dentify and Size Proxi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ed parts are new parts that must be developed and their size must be estima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ize of an added part is determined by using a prox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part type, e.g. calculation, IO, et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number of items, e.g.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relative size, i.e. very small, small, medium, large, or very lar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d the size of an item of this part type and relative size in the relative size ta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 the estimated size = size of an item * number of it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e Other Element Siz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 parts are existing parts that will be changed by adding, deleting, or modify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ize estimate of a base part is its actual size and an estimate of the additions, deletions, and modific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used parts are parts that are used without modific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ize estimate of a reused part is its actual siz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Base Par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27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planning, enter each base pa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name of the base part or use the combo box to select a part from the parts librar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planned size of the base pa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884160" indent="-419040">
              <a:buClr>
                <a:srgbClr val="39536b"/>
              </a:buClr>
              <a:buFont typeface="Arial"/>
              <a:buChar char="•"/>
              <a:tabLst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base size if the part was not selected from the parts libra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884160" indent="-419040">
              <a:buClr>
                <a:srgbClr val="39536b"/>
              </a:buClr>
              <a:buFont typeface="Arial"/>
              <a:buChar char="•"/>
              <a:tabLst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estimated deleted, modified, and added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131840" y="4629240"/>
            <a:ext cx="725976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Added Par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2960" y="1638360"/>
            <a:ext cx="7413480" cy="20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planning, enter each added pa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part na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a part typ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planned number of it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planned relative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ed size is automatically calcula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027080" y="4098960"/>
            <a:ext cx="7261200" cy="20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Reused Par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181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planning, enter each reused pa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name of the reuse part or use the combo box to select a part from the parts librar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planned size of the reuse part if the part was not selected from the parts librar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17720" y="3735360"/>
            <a:ext cx="7259400" cy="17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e Projected Size and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03320" y="1638000"/>
            <a:ext cx="35640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jected size and time are calculated from estimated part size using historical data and PROBE method A, B, C, or 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ROBE Calculation Worksheet automates these calcula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4697280"/>
            <a:ext cx="7532640" cy="17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uring planning, select a PROBE method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 lvl="1" marL="509760" indent="-381240">
              <a:lnSpc>
                <a:spcPct val="100000"/>
              </a:lnSpc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lect a method for program size (A, B, C, or D)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 lvl="1" marL="509760" indent="-381240">
              <a:lnSpc>
                <a:spcPct val="100000"/>
              </a:lnSpc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lect a method for time (A, B, C, or D) 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 lvl="1" marL="509760" indent="-381240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754520" y="1676520"/>
            <a:ext cx="388152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ing PROBE Method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0600" y="1638000"/>
            <a:ext cx="28116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ROBE script includes guidelines for selecting method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arameters referenced in the script can be found at the bottom of the size estimating templat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20600" y="4676760"/>
            <a:ext cx="280044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5000"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thod selection data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 lvl="1" marL="484200" indent="-362160">
              <a:lnSpc>
                <a:spcPct val="100000"/>
              </a:lnSpc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thod C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 lvl="1" marL="484200" indent="-362160">
              <a:lnSpc>
                <a:spcPct val="100000"/>
              </a:lnSpc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thod B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 lvl="1" marL="484200" indent="-362160">
              <a:lnSpc>
                <a:spcPct val="100000"/>
              </a:lnSpc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thod A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5080" y="5305320"/>
            <a:ext cx="34956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thod data can be graphed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 lvl="1" marL="509760" indent="-381240">
              <a:lnSpc>
                <a:spcPct val="100000"/>
              </a:lnSpc>
              <a:buClr>
                <a:srgbClr val="39536b"/>
              </a:buClr>
              <a:buFont typeface="Arial"/>
              <a:buAutoNum type="arabicPeriod" startAt="4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thod C and B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 lvl="1" marL="509760" indent="-381240">
              <a:lnSpc>
                <a:spcPct val="100000"/>
              </a:lnSpc>
              <a:buClr>
                <a:srgbClr val="39536b"/>
              </a:buClr>
              <a:buFont typeface="Arial"/>
              <a:buAutoNum type="arabicPeriod" startAt="4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thod A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940200" y="1700280"/>
            <a:ext cx="45385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Estimates Transferred to Plan Summary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imates are automatically transferred to the Plan Summar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1229" t="6986" r="8450" b="5046"/>
          <a:stretch/>
        </p:blipFill>
        <p:spPr>
          <a:xfrm>
            <a:off x="5226120" y="2195640"/>
            <a:ext cx="3039840" cy="4319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rcRect l="1275" t="6758" r="7612" b="2385"/>
          <a:stretch/>
        </p:blipFill>
        <p:spPr>
          <a:xfrm>
            <a:off x="971640" y="2195640"/>
            <a:ext cx="3039840" cy="431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381560" y="3807000"/>
            <a:ext cx="614160" cy="1079280"/>
          </a:xfrm>
          <a:prstGeom prst="rightArrow">
            <a:avLst>
              <a:gd name="adj1" fmla="val 50000"/>
              <a:gd name="adj2" fmla="val 44963"/>
            </a:avLst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fter Develop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36306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uring postmortem the actual size of parts is entered on the size estimating templat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actual size of the program is entered in Total, under Actual, in the Program Size Summary section of the project plan summar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1275" t="6758" r="7612" b="2385"/>
          <a:stretch/>
        </p:blipFill>
        <p:spPr>
          <a:xfrm>
            <a:off x="4924440" y="1550880"/>
            <a:ext cx="3490920" cy="49611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1229" t="22280" r="12184" b="57656"/>
          <a:stretch/>
        </p:blipFill>
        <p:spPr>
          <a:xfrm>
            <a:off x="1065240" y="4764240"/>
            <a:ext cx="3502080" cy="12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utorial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this tutorial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new elements of PSP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how to use the PSP1 process scripts and for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prepared to use PSP1 for program 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cording Base Part Siz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24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postmortem, enter the size of each base pa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enter the actual base, deleted, modified, and added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 part not estimated, add it and enter zeros in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 a part not used, enter zeros in actu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36800" y="4305240"/>
            <a:ext cx="7259400" cy="15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cording Added Part Siz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2960" y="1638360"/>
            <a:ext cx="7413480" cy="24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postmortem, enter the size of each added pa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enter the actual number of it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enter the actual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 part not estimated, add it and enter zeros in plan,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 a part not used, enter zeros in actu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71640" y="4260960"/>
            <a:ext cx="7257960" cy="206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cording Reused Part Siz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21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postmortem, enter the size of each reuse pa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enter the actual size of the reuse pa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e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 part not estimated, add it and enter zeros in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 part not used, enter zeros in actu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988920" y="4154400"/>
            <a:ext cx="7259760" cy="17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cording Total Actual Siz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1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postmort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enter the actual total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44720" y="3022560"/>
            <a:ext cx="7435800" cy="244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accuracy will fluctu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estimates will have some bia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BE adjusts for bias using historical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gineering judgment is still requi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1 Objectiv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of PSP1 is to establish an orderly and repeatable procedure for developing software size estim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New Process Ele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w process elements are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BE size estimating method and size estimating templ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report templ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ject plan summary has been expan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mary section has been added with plan, actual, and to-date productiv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 Size summary includes planned size for all size accounting typ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values except the Total Size under Actual in the Program Size Summary are now calcula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1 Project Plan Summary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36306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SP1 Project Plan Summary includes a new summary sec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ummary section includes plan, actual, and to-date productivit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rogram size summary section has been expanded to report planned size for all size accounting typ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ll values except total actual size are calculat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1229" t="6986" r="8450" b="5046"/>
          <a:stretch/>
        </p:blipFill>
        <p:spPr>
          <a:xfrm>
            <a:off x="4764240" y="1525680"/>
            <a:ext cx="3644640" cy="50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1 Project Plan Summary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, actual, and to-date productivity is automatically calcula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the number of added and modified size units per hou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roductivity = A&amp;M Size / Total Development Time * 6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1229" t="17882" r="27062" b="77069"/>
          <a:stretch/>
        </p:blipFill>
        <p:spPr>
          <a:xfrm>
            <a:off x="1243080" y="4411800"/>
            <a:ext cx="5943600" cy="59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Report Templat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363060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this form to record data on each of your tes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test was ru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ich test data were us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sults that were obtain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elpful fo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veloping and recording test cas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erforming regression test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541" t="7146" r="10267" b="23473"/>
          <a:stretch/>
        </p:blipFill>
        <p:spPr>
          <a:xfrm>
            <a:off x="4564080" y="1735200"/>
            <a:ext cx="3875040" cy="444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4896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PROBE and the Size Estimating Template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2960" y="1638000"/>
            <a:ext cx="363060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arting with PSP1, the PROBE method is used for making size and time estimat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ize Estimating Template is used t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cord input to the PROBE metho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alculate the estimated size and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cord actual siz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1275" t="6758" r="7612" b="2385"/>
          <a:stretch/>
        </p:blipFill>
        <p:spPr>
          <a:xfrm>
            <a:off x="4983120" y="1525680"/>
            <a:ext cx="3560760" cy="50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65080" y="8604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teps in the PROBE Metho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27080" y="1568520"/>
            <a:ext cx="7089840" cy="499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dc:language>en-US</dc:language>
  <cp:lastModifiedBy>Julia Mullaney</cp:lastModifiedBy>
  <cp:lastPrinted>2000-12-21T16:04:54Z</cp:lastPrinted>
  <dcterms:modified xsi:type="dcterms:W3CDTF">2006-10-18T16:16:08Z</dcterms:modified>
  <cp:revision>166</cp:revision>
  <dc:subject/>
  <dc:title>No Slide Title</dc:title>
</cp:coreProperties>
</file>