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480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Using PSP2.1 - </a:t>
            </a:r>
            <a:fld id="{08141D7F-FEF8-4708-BB8E-FA0EBD04AB4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336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Using PSP2.1 - </a:t>
            </a:r>
            <a:fld id="{D1858C44-8E81-4EAA-9A50-7790D7AAFFC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48880" y="1731600"/>
            <a:ext cx="80312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br>
              <a:rPr sz="3100"/>
            </a:b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br>
              <a:rPr sz="3100"/>
            </a:br>
            <a:br>
              <a:rPr sz="4800"/>
            </a:b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Tutorial: Using PSP2.1</a:t>
            </a:r>
            <a:endParaRPr b="1" lang="en-US" sz="45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Q A/F Ratio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Q A/F Ratio is the ratio of appraisal costs to failure co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470320" y="5730840"/>
                <a:ext cx="38480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COQ A/F Ratio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% Appraisal CO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%Failure CO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84120" y="2627280"/>
            <a:ext cx="657396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.1 provides data that allows you to manage the cost of improving the quality of the programs you wri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templates will help you to record and document your design, making it easier to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new elements of PSP2.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use the PSP2.1 scripts and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epared to use PSP2.1 for programs 6, 7, and 8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2.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2.1 are to int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measures for managing process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templates that provide an orderly framework and format for recording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.1 adds the following process element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.1 design review scrip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.1 design review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rational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templates are discussed in the lectures on state machines and software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will walk through an example of a completed PSP2.1 project plan summ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the new items on this form are discus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Size Prediction Interv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size prediction intervals are automatical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214720" y="4122720"/>
            <a:ext cx="4362120" cy="23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Development Time Prediction Intervals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time prediction intervals are automaticall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d using the method described in the tex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I – upper prediction inter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PI – lower prediction inter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values are calculated only if PROBE method A or 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390760" y="4154400"/>
            <a:ext cx="436248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ummary:  Percent Appraisal COQ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% Appraisal Cost of Quality is the percentage of development time spent in design review and code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214280" y="5753160"/>
                <a:ext cx="672804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Appraisal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sign Review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de Review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278000" y="280836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:  Percent Failure COQ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8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585720" indent="-45720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% Failure Cost of Quality is the percentage of development time spent in compile and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952640" y="5664240"/>
                <a:ext cx="489096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% Failure CO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mpile Time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Test Tim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otal Development Tim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8000" y="2600280"/>
            <a:ext cx="6588000" cy="2801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30T20:36:30Z</dcterms:modified>
  <cp:revision>129</cp:revision>
  <dc:subject/>
  <dc:title>No Slide Title</dc:title>
</cp:coreProperties>
</file>