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45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564240"/>
            <a:ext cx="3657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Process Measurement - </a:t>
            </a:r>
            <a:fld id="{6318445B-80B4-44AE-A621-7D3EFB31D8C6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Process Measurement - </a:t>
            </a:r>
            <a:fld id="{5605799A-1D0E-4878-8576-C5E1CAEA6BAB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Process Measurement 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13160" y="15462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92080" y="918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Defect Meas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3240" y="15807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goals of the PSP defect measure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a historical baseline of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numbers and types of defects inj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relative costs of removing  defects in each PSP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questions these data can help answer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did I make in each pha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y defects did I remove in each pha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time did it take to find and fix each defec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92080" y="91872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Derived Measure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884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PSP derived measure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ate and To Date %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size developed or reviewed per hou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P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% Reuse and % New Reus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/F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Q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learn about these measures in the rest of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6976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easurement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7960" y="1566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measurements must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ed to development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chine coun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itable for early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96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Versus Development Effo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4960" y="1581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requirement:  If the size measure is not directly related to development cost, it is not worth us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many possible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base el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nes of code (LOC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ction poi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ges, screens, scripts, repor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ize measure should be sensitive to language, design, and development pract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23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xt Pages Versus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00080" y="1743120"/>
            <a:ext cx="691524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3760" y="930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ript Size Versus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79320" y="15415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5415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69760" y="917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port Size Versus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93720" y="152892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720" y="152892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69760" y="917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reen Elements Versus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92280" y="1600200"/>
          <a:ext cx="691488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1600200"/>
                    <a:ext cx="69148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967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C++ LOC 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Versus </a:t>
            </a: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im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79320" y="154620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54620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9360" y="863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scal LOC Versus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79320" y="1481040"/>
          <a:ext cx="69152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9320" y="1481040"/>
                    <a:ext cx="69152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8720" y="874440"/>
            <a:ext cx="75484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72640" y="1619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measure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measurement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I size measurement fra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ing program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coun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ing standar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57160" y="931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lationship to Development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70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ges are often an acceptable measure for document develop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C is usually a good measure for developing source programs like Pascal and C++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possible measures are function points, screens, modules, database elements, and maintenance fix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69760" y="8776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cision and Accuracy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76400" y="1638360"/>
            <a:ext cx="6991200" cy="474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84160" y="930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asurement Preci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07560" y="1593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wo people measure the same thing, will they get the same resul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so requires a precise measurement defin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asure must also be properly appli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fferent people will likely have different definitions of database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scal LOC do not equate to assembler 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w LOC are not the same as modified 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ical LOC do not equate to physical 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 person’s C++ LOC may not relate to someone else’s C++ LO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6976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chine Countab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74440" y="1563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ual size counting is time-consuming and inaccur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utomated counters will only work for defined product characteristic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ers can be complex, depending on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definition sele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ing method us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69760" y="888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itable for Early Plann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7040" y="15764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making initial project plans, measures are needed that you can visualize at the beginning of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house, square feet predicts cos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ew people can visualize a house in terms of square feet of living spa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umbers of rooms is more intui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uitive size measures are usually needed for initial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6976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itable for Early Plannin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14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fortunately, popular intuitive measures are not often measurable, and popular measurable measures are often not intuiti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unction poi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ui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directly measur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intuiti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ly measur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84160" y="888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a Size Measur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product developmen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ources requir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characteristic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special development condi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nk products by resources requi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e what characteristics distinguish those products that took the greatest effort from those that took the leas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6760" y="903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a Size Measur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41040" y="1590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e if these differences are measur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late a selected measure for the product s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re is no correlation, try aga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may be no single best meas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mbination of measures could be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thods for handling multiple measures are discussed lat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11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a Size Measure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26640" y="15764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are better at estimating resources than program size, size estimation will not improve your plan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estimate resources directly, you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accurate record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 large databas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an estimating gur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56800" y="917280"/>
            <a:ext cx="775188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C Measurement 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01440" y="1592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ggested PSP LOC measure uses logical (versus physical) lines of co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ment specific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nexecut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ed statement typ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nguage and code typ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igin and us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7680" y="9475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Measurement Princip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88840" y="1623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useful, measurements should b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ed for a specific purpo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licitly def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 manag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 us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ing your process will not improve it.  You must make process changes to achieve lasting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71200" y="890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nting Program Siz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1563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ical lin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variant to editing chan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rrelate with development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iquely defin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x to cou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ysical lin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easy to cou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not invari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st be precisely defined for each c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98200" y="876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nting Program Siz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85600" y="15922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uses a coding standard and a physical counter for LOC size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coding standar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hysical line for each logical li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standard must be faithfully follow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, physical line counting equals logical line coun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96760" y="8618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 LOC Counting Examp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74800" y="1563840"/>
            <a:ext cx="80834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dure ISet.Set(var N: int; var inc: boolean);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 := false;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archPtr := SetStart;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(SearchPtr&lt;&gt;nil) and (inc == false)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SearchPtr^.ThisN == 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 := tr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l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archPtr:=SearchPtr^.NextN;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347760"/>
                <a:tab algn="l" pos="695160"/>
                <a:tab algn="l" pos="1042920"/>
                <a:tab algn="l" pos="1390680"/>
                <a:tab algn="l" pos="1738440"/>
                <a:tab algn="l" pos="2085840"/>
                <a:tab algn="l" pos="2433600"/>
                <a:tab algn="l" pos="2781360"/>
                <a:tab algn="l" pos="3129120"/>
                <a:tab algn="l" pos="3476520"/>
                <a:tab algn="l" pos="3824280"/>
                <a:tab algn="l" pos="4172040"/>
                <a:tab algn="l" pos="4519440"/>
                <a:tab algn="l" pos="4867200"/>
                <a:tab algn="l" pos="5214960"/>
                <a:tab algn="l" pos="5562720"/>
                <a:tab algn="l" pos="5910120"/>
                <a:tab algn="l" pos="6257880"/>
                <a:tab algn="l" pos="6605640"/>
                <a:tab algn="l" pos="6953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;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69760" y="8618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’s LOC Counting Standar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69480" y="161784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 all statements.  This includ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gin, end, if, then, else,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{, }, ;, .,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larations, directives, headers, et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count blanks, comment lines, or automatically generated co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nt added and modified code for measuring and estimating development productiv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96760" y="87624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Accoun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41040" y="1604880"/>
            <a:ext cx="75596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small products, size tracking can be done manually, but it requires c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larger products, size tracking requires an accounting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accounting provides an orderly and precise way of tracking size changes through multiple product vers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0760" y="863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of Size Accounting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39000" y="5938920"/>
            <a:ext cx="29642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2560" bIns="52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700" spc="-1" strike="noStrike">
                <a:solidFill>
                  <a:srgbClr val="0066ff"/>
                </a:solidFill>
                <a:latin typeface="Arial"/>
              </a:rPr>
              <a:t>What happened?</a:t>
            </a:r>
            <a:endParaRPr b="0" lang="en-US" sz="27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85920" y="1693800"/>
            <a:ext cx="657072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1160" y="8902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ample of Size Accountin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1120" y="1511280"/>
            <a:ext cx="755964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440" rIns="109440" tIns="52560" bIns="52560" anchor="t">
            <a:noAutofit/>
          </a:bodyPr>
          <a:p>
            <a:pPr marL="128520" indent="-128520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1190520"/>
                <a:tab algn="l" pos="2381400"/>
                <a:tab algn="l" pos="3571920"/>
                <a:tab algn="l" pos="4762440"/>
                <a:tab algn="l" pos="5952960"/>
                <a:tab algn="l" pos="7143840"/>
                <a:tab algn="l" pos="8334360"/>
                <a:tab algn="l" pos="9524880"/>
                <a:tab algn="l" pos="10715760"/>
              </a:tabLst>
            </a:pPr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330200" y="1535040"/>
          <a:ext cx="6364440" cy="4470480"/>
        </p:xfrm>
        <a:graphic>
          <a:graphicData uri="http://schemas.openxmlformats.org/drawingml/2006/table">
            <a:tbl>
              <a:tblPr/>
              <a:tblGrid>
                <a:gridCol w="1698840"/>
                <a:gridCol w="1554120"/>
                <a:gridCol w="1542960"/>
                <a:gridCol w="156852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ubtracte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s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se V0 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536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536b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536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lete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difie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ase V1 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lete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difie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28520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ded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V1 Produc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-2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5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406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otal Added and Modified LOC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7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39536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69760" y="903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577880"/>
            <a:ext cx="773604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ffectively plan and manage your work, you must measure product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different types of work, use different size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measure, size must correlate with development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size measure does not correlate or is not automatically countable, it will not be very usefu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 size measure should be precisely defined and automatically counta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63280" y="96156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 Measurement Purpos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728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measu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and manage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dict or plan for the futur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one product, process, or organization with ano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adherence to standar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a basis for contr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77680" y="9331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asurement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03240" y="159516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ments only produce nu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useful, they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late to business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roperly interpre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o appropriate ac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business purposes for the measurements are not understo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rong data may be gathe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ta may not be properly us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612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ypes of Measur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39960" y="1595520"/>
            <a:ext cx="773568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generally need objective and explicit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useful, we need relationships that correl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size versus development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st distribu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dens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also seek a controlling or predictive capabi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ions to reduce test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s to improve review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ns to improve produ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052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Measur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74520" y="16380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asic PSP data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93840" indent="-15084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siz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93840" indent="-15084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spent by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93840" indent="-15084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and injected by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th actual and estimated data are gathered on every i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s derived from these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93840" indent="-15084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93840" indent="-15084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racterize process quality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3280" y="9046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Size Meas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60040" y="15951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goals of the PSP size measure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consistent size measur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asis for normalizing time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make better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of the questions these data can help to answer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size program did I plan to develop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good was my size estim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as the completed size of the finished progra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3280" y="91872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Time Measur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444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goals of the PSP time measure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how much time you spend in each PSP phas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you to make better tim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ical questions these data can help answer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time did I spend by PSP pha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0720" indent="-207720">
              <a:buClr>
                <a:srgbClr val="39536b"/>
              </a:buClr>
              <a:buFont typeface="Arial"/>
              <a:buChar char="•"/>
              <a:tabLst>
                <a:tab algn="l" pos="1203480"/>
                <a:tab algn="l" pos="2406600"/>
                <a:tab algn="l" pos="3610080"/>
                <a:tab algn="l" pos="4813200"/>
                <a:tab algn="l" pos="6016680"/>
                <a:tab algn="l" pos="7219800"/>
                <a:tab algn="l" pos="8423280"/>
                <a:tab algn="l" pos="9626760"/>
                <a:tab algn="l" pos="1082988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uch time did I plan to spend by PSP phas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23T13:26:16Z</dcterms:modified>
  <cp:revision>127</cp:revision>
  <dc:subject/>
  <dc:title>No Slide Title</dc:title>
</cp:coreProperties>
</file>