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C2F38FB-DCC2-449D-BDBA-A2BAD7CC2A8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3616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B117962D-A4BF-4CB4-8687-478479BE2292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EE58EED-0527-4241-835C-510A4DBD108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203040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C353346-020A-4A37-86A0-9FE9EC38B6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2030400" y="617400"/>
            <a:ext cx="2876400" cy="2157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8562BAB-5014-4225-A9E0-B0430968FDC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22200" y="712800"/>
            <a:ext cx="4707000" cy="35323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52560" y="4485960"/>
            <a:ext cx="5245200" cy="42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224000" y="714240"/>
            <a:ext cx="4705200" cy="35308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53640" y="5062320"/>
            <a:ext cx="524196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 chan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596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Introduction to PSP and TSP - </a:t>
            </a:r>
            <a:fld id="{687ACF83-9EFD-4E25-86E8-0F30BD90A03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272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3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Introduction to PSP and TSP - </a:t>
            </a:r>
            <a:fld id="{B3B29ADB-1FDB-4FD9-AB93-BE5891EA861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28880" y="1965240"/>
            <a:ext cx="651024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Introduction to PSP and TSP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65360" y="1949400"/>
            <a:ext cx="267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Support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will support you as long as you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ive to meet their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regular reports on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vince them that your plans are soun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quality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to changing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e to them for help when you have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Support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 are a barg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will agree to your managing your own work as long as they believe that you are doing a superior job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onvince them of this, you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 precise and accurate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 and track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ly show management that you are doing superio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shows you how to do th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58600" y="90612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rinciple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75880" y="1461960"/>
            <a:ext cx="778212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a software system is determined by the quality of its worst compon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a software component is governed by the individual who developed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a software component is governed by the quality of the process used to develop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key to quality is the individual developer’s skill, commitment, and personal process discip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58600" y="86328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Principle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0120" y="1493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software professional, you are responsible for your personal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measure, track, and analyze your work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learn from your performance vari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incorporate lessons learned into your personal practi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5840" y="87768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oes a PSP Provide?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2960" y="149364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table, mature PSP allows you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e and plan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 your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ist unreasonable commitment pres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als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your current perform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better equipped to improve your capability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01440" y="84924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Does the PSP Provide?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98560" y="153504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provid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roven basis for developing and using an industrial-strength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discipline that shows you how to improve your personal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ata to continually improve the productivity, quality, and predictability of you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18800" y="96804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the PSP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91800" y="160632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a personal process for developing software or for doing any other defined activity.  The PSP includ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d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ndar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provides a measurement and analysis framework for characterizing and managing your personal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also a defined procedure that helps you to improve your personal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912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195560"/>
                <a:tab algn="l" pos="2390760"/>
                <a:tab algn="l" pos="3586320"/>
                <a:tab algn="l" pos="4781520"/>
                <a:tab algn="l" pos="5977080"/>
                <a:tab algn="l" pos="7172280"/>
                <a:tab algn="l" pos="8367840"/>
                <a:tab algn="l" pos="9563040"/>
                <a:tab algn="l" pos="1075860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SP Process Flo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08000" y="1628640"/>
            <a:ext cx="7736040" cy="489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7640" y="922320"/>
            <a:ext cx="787536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ersonal Software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91800" y="165708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process is designed for individual 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based on scaled-down industrial software practic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course demonstrates the value of using a defined and measured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helps you and your organization meet the increasing demands for high quality and timely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the PSP -1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85960" y="1498680"/>
            <a:ext cx="7619760" cy="47116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introduced in six upward-compatible ste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rite one or more module-sized programs at each ste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gather and analyze data on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use the results to improve your personal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6652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66880" y="156672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ed for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TSP</a:t>
            </a:r>
            <a:r>
              <a:rPr b="0" lang="en-US" sz="22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inciples and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TS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eed for management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the PSP and how does it help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2240" y="5875200"/>
            <a:ext cx="734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 baseline="30000">
                <a:solidFill>
                  <a:srgbClr val="39536b"/>
                </a:solidFill>
                <a:latin typeface="Arial"/>
              </a:rPr>
              <a:t>SM</a:t>
            </a: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 Personal Software Process, PSP, Team Software Process, and TSP are service marks of Carnegie Mellon University.</a:t>
            </a: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43000" y="1320840"/>
            <a:ext cx="75438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3606840"/>
            <a:ext cx="7543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68320" y="898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the PSP -2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003400" y="1714680"/>
            <a:ext cx="5137200" cy="45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41320" y="898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arning the PSP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90640" y="1528560"/>
            <a:ext cx="806616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28520" indent="0">
              <a:buNone/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0: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establish a measured performance base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1: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ake size, resource, and schedul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2: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practice defect and yield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128520" indent="0">
              <a:buNone/>
              <a:tabLst>
                <a:tab algn="l" pos="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6120" y="896760"/>
            <a:ext cx="742140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t Course Conclus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79480" y="1514520"/>
            <a:ext cx="8091360" cy="43308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have practiced the key elements of an industrial-strength software process.*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understand which methods are most effective for you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do bette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have long-term improvemen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42040" y="6024600"/>
            <a:ext cx="476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These are generally called CMMI level 5 process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6652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Resul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90280" y="1476360"/>
            <a:ext cx="7815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now have data on over 30,000 programs written using the 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charts show how others have improved during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and tes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Effort Estimating Accuracy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44640" y="1760040"/>
            <a:ext cx="3510000" cy="4676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jority are under-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lance of over- 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estim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uch tighter bal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ound zer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37280" y="1860480"/>
            <a:ext cx="842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28360" y="191448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0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24320" y="3532320"/>
            <a:ext cx="8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15760" y="358632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1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37280" y="5202360"/>
            <a:ext cx="842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28360" y="5256360"/>
            <a:ext cx="72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SP 2</a:t>
            </a:r>
            <a:endParaRPr b="0" lang="en-US" sz="18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881680" y="6570720"/>
            <a:ext cx="199872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63000" y="3095640"/>
            <a:ext cx="4554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25444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183440" y="3095640"/>
            <a:ext cx="339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275600" y="314784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97600" y="3095640"/>
            <a:ext cx="495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8976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12720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41720" y="3095640"/>
            <a:ext cx="4939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032440" y="314784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1320" y="314784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25132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78016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30864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850080" y="303984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378560" y="304020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905600" y="303984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8434440" y="304020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53120" y="3052800"/>
            <a:ext cx="316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967280" y="294156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59080" y="299412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89520" y="22478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80600" y="23004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89520" y="15541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980600" y="16066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5189400" y="30528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5189400" y="23590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5189400" y="16653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251320" y="1652760"/>
            <a:ext cx="1800" cy="1398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251320" y="166536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48160" y="2173320"/>
            <a:ext cx="2448000" cy="873000"/>
          </a:xfrm>
          <a:custGeom>
            <a:avLst/>
            <a:gdLst/>
            <a:ahLst/>
            <a:rect l="l" t="t" r="r" b="b"/>
            <a:pathLst>
              <a:path w="1542" h="550">
                <a:moveTo>
                  <a:pt x="1542" y="550"/>
                </a:moveTo>
                <a:lnTo>
                  <a:pt x="0" y="550"/>
                </a:lnTo>
                <a:lnTo>
                  <a:pt x="0" y="526"/>
                </a:lnTo>
                <a:lnTo>
                  <a:pt x="333" y="526"/>
                </a:lnTo>
                <a:lnTo>
                  <a:pt x="406" y="526"/>
                </a:lnTo>
                <a:lnTo>
                  <a:pt x="471" y="485"/>
                </a:lnTo>
                <a:lnTo>
                  <a:pt x="536" y="510"/>
                </a:lnTo>
                <a:lnTo>
                  <a:pt x="601" y="526"/>
                </a:lnTo>
                <a:lnTo>
                  <a:pt x="674" y="461"/>
                </a:lnTo>
                <a:lnTo>
                  <a:pt x="739" y="526"/>
                </a:lnTo>
                <a:lnTo>
                  <a:pt x="804" y="510"/>
                </a:lnTo>
                <a:lnTo>
                  <a:pt x="869" y="396"/>
                </a:lnTo>
                <a:lnTo>
                  <a:pt x="942" y="396"/>
                </a:lnTo>
                <a:lnTo>
                  <a:pt x="1007" y="202"/>
                </a:lnTo>
                <a:lnTo>
                  <a:pt x="1072" y="113"/>
                </a:lnTo>
                <a:lnTo>
                  <a:pt x="1137" y="137"/>
                </a:lnTo>
                <a:lnTo>
                  <a:pt x="1202" y="0"/>
                </a:lnTo>
                <a:lnTo>
                  <a:pt x="1242" y="89"/>
                </a:lnTo>
                <a:lnTo>
                  <a:pt x="1307" y="307"/>
                </a:lnTo>
                <a:lnTo>
                  <a:pt x="1340" y="202"/>
                </a:lnTo>
                <a:lnTo>
                  <a:pt x="1404" y="396"/>
                </a:lnTo>
                <a:lnTo>
                  <a:pt x="1469" y="461"/>
                </a:lnTo>
                <a:lnTo>
                  <a:pt x="1542" y="526"/>
                </a:lnTo>
                <a:lnTo>
                  <a:pt x="1542" y="5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150400" y="4727520"/>
            <a:ext cx="4554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2400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170840" y="4727520"/>
            <a:ext cx="3394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262640" y="478008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985000" y="4727520"/>
            <a:ext cx="495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7680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11424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27680" y="4727520"/>
            <a:ext cx="49536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19840" y="478008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058720" y="478008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23872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576756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62960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837480" y="467172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7365960" y="4672080"/>
            <a:ext cx="180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7893000" y="467172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8421840" y="4672080"/>
            <a:ext cx="1440" cy="61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240160" y="468468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4680" y="4573440"/>
            <a:ext cx="24264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46480" y="462600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76920" y="387972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68000" y="393228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318600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68000" y="32385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5176800" y="468468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176800" y="399096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5176800" y="329724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38720" y="3284280"/>
            <a:ext cx="144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238720" y="329724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  <a:close/>
              </a:path>
            </a:pathLst>
          </a:custGeom>
          <a:solidFill>
            <a:srgbClr val="dd14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232240" y="3598920"/>
            <a:ext cx="2654640" cy="1079280"/>
          </a:xfrm>
          <a:custGeom>
            <a:avLst/>
            <a:gdLst/>
            <a:ahLst/>
            <a:rect l="l" t="t" r="r" b="b"/>
            <a:pathLst>
              <a:path w="1672" h="680">
                <a:moveTo>
                  <a:pt x="1672" y="680"/>
                </a:moveTo>
                <a:lnTo>
                  <a:pt x="0" y="680"/>
                </a:lnTo>
                <a:lnTo>
                  <a:pt x="0" y="656"/>
                </a:lnTo>
                <a:lnTo>
                  <a:pt x="333" y="656"/>
                </a:lnTo>
                <a:lnTo>
                  <a:pt x="536" y="640"/>
                </a:lnTo>
                <a:lnTo>
                  <a:pt x="666" y="640"/>
                </a:lnTo>
                <a:lnTo>
                  <a:pt x="804" y="591"/>
                </a:lnTo>
                <a:lnTo>
                  <a:pt x="869" y="615"/>
                </a:lnTo>
                <a:lnTo>
                  <a:pt x="934" y="656"/>
                </a:lnTo>
                <a:lnTo>
                  <a:pt x="1007" y="526"/>
                </a:lnTo>
                <a:lnTo>
                  <a:pt x="1072" y="502"/>
                </a:lnTo>
                <a:lnTo>
                  <a:pt x="1137" y="372"/>
                </a:lnTo>
                <a:lnTo>
                  <a:pt x="1202" y="437"/>
                </a:lnTo>
                <a:lnTo>
                  <a:pt x="1266" y="243"/>
                </a:lnTo>
                <a:lnTo>
                  <a:pt x="1307" y="0"/>
                </a:lnTo>
                <a:lnTo>
                  <a:pt x="1372" y="267"/>
                </a:lnTo>
                <a:lnTo>
                  <a:pt x="1404" y="219"/>
                </a:lnTo>
                <a:lnTo>
                  <a:pt x="1469" y="372"/>
                </a:lnTo>
                <a:lnTo>
                  <a:pt x="1534" y="550"/>
                </a:lnTo>
                <a:lnTo>
                  <a:pt x="1607" y="591"/>
                </a:lnTo>
                <a:lnTo>
                  <a:pt x="1672" y="656"/>
                </a:lnTo>
                <a:lnTo>
                  <a:pt x="1672" y="68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8163000" y="6399360"/>
            <a:ext cx="45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25444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183440" y="6399360"/>
            <a:ext cx="33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275600" y="6451560"/>
            <a:ext cx="192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997600" y="6399360"/>
            <a:ext cx="495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8976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12720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941720" y="6399360"/>
            <a:ext cx="493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32440" y="6451560"/>
            <a:ext cx="7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71320" y="645156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0%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25132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578016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30864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6850080" y="6341760"/>
            <a:ext cx="144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7378560" y="6342120"/>
            <a:ext cx="180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7905600" y="6341760"/>
            <a:ext cx="180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8434440" y="6342120"/>
            <a:ext cx="1440" cy="6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53120" y="6354720"/>
            <a:ext cx="3168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67280" y="6243480"/>
            <a:ext cx="24300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59080" y="6297480"/>
            <a:ext cx="97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89520" y="554976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980600" y="560376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889520" y="4856040"/>
            <a:ext cx="30168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80600" y="4908600"/>
            <a:ext cx="15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89400" y="6354720"/>
            <a:ext cx="61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189400" y="566100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5189400" y="4967280"/>
            <a:ext cx="61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251320" y="4954320"/>
            <a:ext cx="1800" cy="139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251320" y="4967280"/>
            <a:ext cx="3171960" cy="137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5877000" y="4998960"/>
            <a:ext cx="1919160" cy="1349280"/>
            <a:chOff x="5877000" y="4998960"/>
            <a:chExt cx="1919160" cy="1349280"/>
          </a:xfrm>
        </p:grpSpPr>
        <p:sp>
          <p:nvSpPr>
            <p:cNvPr id="482" name="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  <a:close/>
                </a:path>
              </a:pathLst>
            </a:custGeom>
            <a:solidFill>
              <a:srgbClr val="dd1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877000" y="4998960"/>
              <a:ext cx="1919160" cy="1349280"/>
            </a:xfrm>
            <a:custGeom>
              <a:avLst/>
              <a:gdLst/>
              <a:ahLst/>
              <a:rect l="l" t="t" r="r" b="b"/>
              <a:pathLst>
                <a:path w="1209" h="850">
                  <a:moveTo>
                    <a:pt x="1209" y="850"/>
                  </a:moveTo>
                  <a:lnTo>
                    <a:pt x="0" y="850"/>
                  </a:lnTo>
                  <a:lnTo>
                    <a:pt x="0" y="826"/>
                  </a:lnTo>
                  <a:lnTo>
                    <a:pt x="138" y="826"/>
                  </a:lnTo>
                  <a:lnTo>
                    <a:pt x="268" y="826"/>
                  </a:lnTo>
                  <a:lnTo>
                    <a:pt x="471" y="826"/>
                  </a:lnTo>
                  <a:lnTo>
                    <a:pt x="536" y="761"/>
                  </a:lnTo>
                  <a:lnTo>
                    <a:pt x="609" y="826"/>
                  </a:lnTo>
                  <a:lnTo>
                    <a:pt x="674" y="786"/>
                  </a:lnTo>
                  <a:lnTo>
                    <a:pt x="739" y="721"/>
                  </a:lnTo>
                  <a:lnTo>
                    <a:pt x="804" y="502"/>
                  </a:lnTo>
                  <a:lnTo>
                    <a:pt x="869" y="437"/>
                  </a:lnTo>
                  <a:lnTo>
                    <a:pt x="909" y="106"/>
                  </a:lnTo>
                  <a:lnTo>
                    <a:pt x="974" y="0"/>
                  </a:lnTo>
                  <a:lnTo>
                    <a:pt x="1007" y="259"/>
                  </a:lnTo>
                  <a:lnTo>
                    <a:pt x="1071" y="607"/>
                  </a:lnTo>
                  <a:lnTo>
                    <a:pt x="1136" y="737"/>
                  </a:lnTo>
                  <a:lnTo>
                    <a:pt x="1209" y="826"/>
                  </a:lnTo>
                  <a:lnTo>
                    <a:pt x="1209" y="85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9536b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58808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Compile and Test Time – 810 Engineers 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590400" y="1639800"/>
            <a:ext cx="8234640" cy="48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4683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ize and LOC/hour – 810 Engineers 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649440" y="1625760"/>
            <a:ext cx="8327880" cy="48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683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90640" y="1552320"/>
            <a:ext cx="7410240" cy="45702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is a defined process that helps you do bette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you have completed the course, you will know how to apply the PSP to your personal nee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will have the knowledge and skill to be on a TS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PSP0, the objective is to gather accurate and complete data on your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9720" y="982440"/>
            <a:ext cx="74199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hanging World of Softwa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28880" y="1793520"/>
            <a:ext cx="741024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now controls most business, government, and military syst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ctories are managed by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advanced products are controlled by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nce, administrative, and business operations are largely run by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st, schedule, and quality of software is now a critical business concer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90640" y="2089080"/>
            <a:ext cx="4260960" cy="3029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90640" y="5118120"/>
            <a:ext cx="426096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90640" y="436572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90640" y="39816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90640" y="361332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90640" y="3228840"/>
            <a:ext cx="426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90640" y="284328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90640" y="24750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90640" y="2089080"/>
            <a:ext cx="4260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90640" y="2089080"/>
            <a:ext cx="4260960" cy="30290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90640" y="2089080"/>
            <a:ext cx="1800" cy="3029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10000" y="5118120"/>
            <a:ext cx="8064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10000" y="47340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10000" y="436572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10000" y="39816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10000" y="361332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10000" y="3228840"/>
            <a:ext cx="8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10000" y="284328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10000" y="2475000"/>
            <a:ext cx="80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10000" y="2089080"/>
            <a:ext cx="80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90640" y="4734000"/>
            <a:ext cx="4260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6906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874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005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99556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1082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2050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3177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4146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2584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36226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7353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8322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39448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04028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1371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2498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3466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4593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5543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6688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7656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8783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752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0878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1832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596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3928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50548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600880" y="4733640"/>
            <a:ext cx="288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6973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581040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90724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6019920" y="4733640"/>
            <a:ext cx="14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1149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22764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3244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4371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5340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645240" y="4733640"/>
            <a:ext cx="324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674208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685476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951600" y="4733640"/>
            <a:ext cx="1800" cy="81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738520" y="5038200"/>
            <a:ext cx="11268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851200" y="49752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48040" y="48942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3060720" y="4815000"/>
            <a:ext cx="968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57560" y="47340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270240" y="4669920"/>
            <a:ext cx="95400" cy="6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365640" y="4589640"/>
            <a:ext cx="96840" cy="80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462480" y="451008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575160" y="442872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72000" y="4365720"/>
            <a:ext cx="110880" cy="6336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3782880" y="4285800"/>
            <a:ext cx="9684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79720" y="420516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992400" y="41418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89240" y="4060800"/>
            <a:ext cx="11304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202280" y="3981600"/>
            <a:ext cx="950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97320" y="390060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0000" y="3836520"/>
            <a:ext cx="96840" cy="637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6840" y="3757680"/>
            <a:ext cx="114480" cy="79200"/>
          </a:xfrm>
          <a:custGeom>
            <a:avLst/>
            <a:gdLst/>
            <a:ahLst/>
            <a:rect l="l" t="t" r="r" b="b"/>
            <a:pathLst>
              <a:path w="64" h="45">
                <a:moveTo>
                  <a:pt x="0" y="45"/>
                </a:moveTo>
                <a:lnTo>
                  <a:pt x="27" y="27"/>
                </a:lnTo>
                <a:lnTo>
                  <a:pt x="64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21320" y="367632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718160" y="3613320"/>
            <a:ext cx="112680" cy="6336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830840" y="3531960"/>
            <a:ext cx="950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925880" y="3452400"/>
            <a:ext cx="9684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2720" y="3371760"/>
            <a:ext cx="112680" cy="810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135400" y="3308400"/>
            <a:ext cx="96840" cy="633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232240" y="3228840"/>
            <a:ext cx="11124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343480" y="3147480"/>
            <a:ext cx="9684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40320" y="3068640"/>
            <a:ext cx="112680" cy="792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3000" y="3003120"/>
            <a:ext cx="9684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49840" y="2924280"/>
            <a:ext cx="112680" cy="7920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762520" y="2842920"/>
            <a:ext cx="95400" cy="81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7920" y="2779560"/>
            <a:ext cx="112680" cy="63720"/>
          </a:xfrm>
          <a:custGeom>
            <a:avLst/>
            <a:gdLst/>
            <a:ahLst/>
            <a:rect l="l" t="t" r="r" b="b"/>
            <a:pathLst>
              <a:path w="63" h="36">
                <a:moveTo>
                  <a:pt x="0" y="36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970600" y="2698920"/>
            <a:ext cx="96840" cy="806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67440" y="261936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180120" y="2540160"/>
            <a:ext cx="96840" cy="792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276960" y="2474640"/>
            <a:ext cx="95400" cy="651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72360" y="239544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27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6485040" y="2312640"/>
            <a:ext cx="96840" cy="82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581880" y="2233440"/>
            <a:ext cx="112680" cy="79560"/>
          </a:xfrm>
          <a:custGeom>
            <a:avLst/>
            <a:gdLst/>
            <a:ahLst/>
            <a:rect l="l" t="t" r="r" b="b"/>
            <a:pathLst>
              <a:path w="63" h="45">
                <a:moveTo>
                  <a:pt x="0" y="45"/>
                </a:moveTo>
                <a:lnTo>
                  <a:pt x="27" y="18"/>
                </a:lnTo>
                <a:lnTo>
                  <a:pt x="63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694560" y="2168640"/>
            <a:ext cx="96840" cy="64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6791400" y="2088720"/>
            <a:ext cx="110880" cy="795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29040" y="3387600"/>
            <a:ext cx="6336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33600" y="3340080"/>
            <a:ext cx="6516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8040" y="3195720"/>
            <a:ext cx="63720" cy="651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75160" y="2955960"/>
            <a:ext cx="63360" cy="63360"/>
          </a:xfrm>
          <a:custGeom>
            <a:avLst/>
            <a:gdLst/>
            <a:ahLst/>
            <a:rect l="l" t="t" r="r" b="b"/>
            <a:pathLst>
              <a:path w="36" h="36">
                <a:moveTo>
                  <a:pt x="18" y="0"/>
                </a:moveTo>
                <a:lnTo>
                  <a:pt x="36" y="36"/>
                </a:lnTo>
                <a:lnTo>
                  <a:pt x="0" y="36"/>
                </a:lnTo>
                <a:lnTo>
                  <a:pt x="1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17760" y="3724200"/>
            <a:ext cx="9684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14600" y="3484440"/>
            <a:ext cx="9540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622680" y="3244680"/>
            <a:ext cx="96840" cy="9540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87880" y="3003480"/>
            <a:ext cx="95400" cy="96840"/>
          </a:xfrm>
          <a:custGeom>
            <a:avLst/>
            <a:gdLst/>
            <a:ahLst/>
            <a:rect l="l" t="t" r="r" b="b"/>
            <a:pathLst>
              <a:path w="54" h="54">
                <a:moveTo>
                  <a:pt x="27" y="0"/>
                </a:moveTo>
                <a:lnTo>
                  <a:pt x="54" y="27"/>
                </a:lnTo>
                <a:lnTo>
                  <a:pt x="27" y="54"/>
                </a:lnTo>
                <a:lnTo>
                  <a:pt x="0" y="27"/>
                </a:lnTo>
                <a:lnTo>
                  <a:pt x="27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30800" y="3260880"/>
            <a:ext cx="96840" cy="950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27640" y="321156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24480" y="317988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37160" y="3068640"/>
            <a:ext cx="96840" cy="9540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854760" y="3003480"/>
            <a:ext cx="96840" cy="96840"/>
          </a:xfrm>
          <a:prstGeom prst="rect">
            <a:avLst/>
          </a:prstGeom>
          <a:solidFill>
            <a:srgbClr val="000000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92800" y="4782960"/>
            <a:ext cx="96840" cy="954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505480" y="4718160"/>
            <a:ext cx="9540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600880" y="4670280"/>
            <a:ext cx="96480" cy="9540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713560" y="4446720"/>
            <a:ext cx="96840" cy="950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23080" y="442908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30800" y="425304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324480" y="4110120"/>
            <a:ext cx="96840" cy="950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37160" y="404496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45240" y="401328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42080" y="390060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4760" y="3821040"/>
            <a:ext cx="96840" cy="96840"/>
          </a:xfrm>
          <a:prstGeom prst="ellipse">
            <a:avLst/>
          </a:prstGeom>
          <a:solidFill>
            <a:srgbClr val="00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t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36400" y="49752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400" y="45896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91680" y="422100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46960" y="38368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38520" y="34686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90920" y="3084480"/>
            <a:ext cx="779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545840" y="2698920"/>
            <a:ext cx="921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0,00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37760" y="2328840"/>
            <a:ext cx="113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000,00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93040" y="1944720"/>
            <a:ext cx="1274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,000,00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rot="18900000">
            <a:off x="20721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8900000">
            <a:off x="260244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5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8900000">
            <a:off x="311688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8900000">
            <a:off x="36309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8900000">
            <a:off x="416124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8900000">
            <a:off x="467712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8900000">
            <a:off x="519156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8900000">
            <a:off x="570600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18900000">
            <a:off x="6236280" y="5509800"/>
            <a:ext cx="567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2440" y="6097680"/>
            <a:ext cx="655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146520" y="3458520"/>
            <a:ext cx="1514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ize in KLOC</a:t>
            </a:r>
            <a:endParaRPr b="0" lang="en-US" sz="19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54920" y="5522760"/>
            <a:ext cx="1758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Moore’s Law: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X in 18 months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10X in 5 years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oftware Products are Bigg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18360" y="2451240"/>
            <a:ext cx="14637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ig Software Projects Usually Fail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17360" y="1709280"/>
            <a:ext cx="7159320" cy="3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 increased size, projects are more troubl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03680" y="6245280"/>
            <a:ext cx="298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tandish: Chaos Reports, 1999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036800" y="2327400"/>
          <a:ext cx="7492680" cy="2311200"/>
        </p:xfrm>
        <a:graphic>
          <a:graphicData uri="http://schemas.openxmlformats.org/drawingml/2006/table">
            <a:tbl>
              <a:tblPr/>
              <a:tblGrid>
                <a:gridCol w="2422440"/>
                <a:gridCol w="1657440"/>
                <a:gridCol w="1657080"/>
                <a:gridCol w="1755720"/>
              </a:tblGrid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Siz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Months)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 $750K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750K to $1.5M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48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.5M to $3M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M to $6M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6M to $10M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50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18288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 $10M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 marL="18288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500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36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020600" y="4956120"/>
            <a:ext cx="7407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is a problem of scale: current software practices do not scale up.</a:t>
            </a:r>
            <a:endParaRPr b="0" lang="en-US" sz="20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Projects Fail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 and small software projects fail for four rea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ject commitments are often unrealist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rger the project, the less influence we hav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we don’t have anything to say, nobody will list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projects are harder to control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day, few developers have personal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a plan, you cannot know job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 don’t know where you are, management can’t understand job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management doesn’t understand job status, they can’t manag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Projects Fail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280" y="1619280"/>
            <a:ext cx="756756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problems get worse with project siz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software systems, if any part has quality problems, the system will have quality proble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developers do not manage quality, their teams cannot manage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unmanaged, quality will always be po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be effective, teams need leadership and coaching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ers build team motivation and commit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develops team cohe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hesive, motivated, and committed teams do the bes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Need for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y lives and businesses now depend on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now need larger, more complex, and safer software systems on predictable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out different software practices, this will not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Software Process (TSP) addresses this need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 provides the knowledge and skill that developers need to work on TSP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Support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19280"/>
            <a:ext cx="7410240" cy="45705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itial TSP objective is to convince management to let your team be self dir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self-directed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s its own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es its own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cides on its own development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s its own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its own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s, manages, and controls its own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f-directed teams do the bes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0-18T16:14:26Z</dcterms:modified>
  <cp:revision>149</cp:revision>
  <dc:subject/>
  <dc:title>No Slide Title</dc:title>
</cp:coreProperties>
</file>