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1800" y="-50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3884400" y="-50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2"/>
          </p:nvPr>
        </p:nvSpPr>
        <p:spPr>
          <a:xfrm>
            <a:off x="-1800" y="86594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3"/>
          </p:nvPr>
        </p:nvSpPr>
        <p:spPr>
          <a:xfrm>
            <a:off x="3884400" y="86594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DDED739-161E-40AA-85A3-0A27EA71BB9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93960" y="8682120"/>
            <a:ext cx="127044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en-US" sz="1200" spc="-1" strike="noStrike">
                <a:solidFill>
                  <a:srgbClr val="39536b"/>
                </a:solidFill>
                <a:latin typeface="Arial"/>
              </a:rPr>
              <a:t>Page </a:t>
            </a:r>
            <a:fld id="{3CE68375-959E-4644-8B03-083F282A27A8}" type="slidenum">
              <a:rPr b="0" lang="en-US" sz="12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Img"/>
          </p:nvPr>
        </p:nvSpPr>
        <p:spPr>
          <a:xfrm>
            <a:off x="1158480" y="692280"/>
            <a:ext cx="4538520" cy="3403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body"/>
          </p:nvPr>
        </p:nvSpPr>
        <p:spPr>
          <a:xfrm>
            <a:off x="912960" y="4330800"/>
            <a:ext cx="5032080" cy="41004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29000"/>
            <a:ext cx="5029200" cy="41054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 explain how proxies work for estimating, let's look at an example from outside the software fiel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29000"/>
            <a:ext cx="5029200" cy="41054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client might have the following requirements for their new hous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29000"/>
            <a:ext cx="5029200" cy="41054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builder can use historical data to build this table showing typical room siz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29000"/>
            <a:ext cx="5029200" cy="41054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e can combine the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wo sets of information to calculate the estimated area of the client's new hous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Could animate this to fill in the table in stages. Start with the first 2 columns, then add the rest of each row (row 1, row 2, then the rest, with total row as final ste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995480" y="64152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3160" cy="5799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8960" bIns="4896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 software development, we need to identify suitable proxi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995480" y="641520"/>
            <a:ext cx="2655720" cy="19922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558360" y="2773080"/>
            <a:ext cx="5753160" cy="57992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8960" bIns="4896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84240"/>
                <a:tab algn="l" pos="1968480"/>
                <a:tab algn="l" pos="2952720"/>
                <a:tab algn="l" pos="3936960"/>
                <a:tab algn="l" pos="4921200"/>
                <a:tab algn="l" pos="5905440"/>
                <a:tab algn="l" pos="6889680"/>
                <a:tab algn="l" pos="7873920"/>
                <a:tab algn="l" pos="8858160"/>
                <a:tab algn="l" pos="9842400"/>
                <a:tab algn="l" pos="10826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 software development, we need to identify suitable proxi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720" y="6566040"/>
            <a:ext cx="243504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© 2006 by Carnegie Mellon University</a:t>
            </a:r>
            <a:endParaRPr b="0" lang="en-US" sz="1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124520" y="6567480"/>
            <a:ext cx="9874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October 2006</a:t>
            </a:r>
            <a:endParaRPr b="0" lang="en-US" sz="1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486400" y="6564240"/>
            <a:ext cx="36576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PSP I - Estimating with PROBE I - </a:t>
            </a:r>
            <a:fld id="{BAE2DA8C-A931-4B51-8BE6-F9F5E4DD60D7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58760" y="4967280"/>
            <a:ext cx="7313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© 2006 by Carnegie Mellon University</a:t>
            </a:r>
            <a:endParaRPr b="0" lang="en-US" sz="16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22720" y="6567480"/>
            <a:ext cx="9874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October 2006</a:t>
            </a:r>
            <a:endParaRPr b="0" lang="en-US" sz="1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388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578560" y="6564240"/>
            <a:ext cx="356544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PSP I - Estimating with PROBE I - </a:t>
            </a:r>
            <a:fld id="{302BD1B9-0EF2-46C0-BCD2-C0247A312497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128520" indent="0"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465120" algn="ctr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370160" algn="ctr">
              <a:spcBef>
                <a:spcPts val="550"/>
              </a:spcBef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Times New Roman"/>
            </a:endParaRPr>
          </a:p>
          <a:p>
            <a:pPr lvl="4" marL="1825560" algn="ctr">
              <a:spcBef>
                <a:spcPts val="550"/>
              </a:spcBef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Times New Roman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Times New Roman"/>
            </a:endParaRPr>
          </a:p>
          <a:p>
            <a:pPr lvl="5" marL="1825560">
              <a:spcBef>
                <a:spcPts val="550"/>
              </a:spcBef>
              <a:buClr>
                <a:srgbClr val="3953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Times New Roman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Times New Roman"/>
            </a:endParaRPr>
          </a:p>
          <a:p>
            <a:pPr lvl="6" marL="1825560">
              <a:spcBef>
                <a:spcPts val="550"/>
              </a:spcBef>
              <a:buClr>
                <a:srgbClr val="3953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Times New Roman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041480" y="1508040"/>
            <a:ext cx="6342120" cy="21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100" spc="-1" strike="noStrike">
                <a:solidFill>
                  <a:srgbClr val="39536b"/>
                </a:solidFill>
                <a:latin typeface="Arial Narrow"/>
              </a:rPr>
              <a:t>Personal Software Process </a:t>
            </a:r>
            <a:endParaRPr b="0" lang="en-US" sz="31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100" spc="-1" strike="noStrike">
                <a:solidFill>
                  <a:srgbClr val="39536b"/>
                </a:solidFill>
                <a:latin typeface="Arial Narrow"/>
              </a:rPr>
              <a:t>for Engineers: Part I</a:t>
            </a:r>
            <a:endParaRPr b="0" lang="en-US" sz="31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2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4500" spc="-1" strike="noStrike">
                <a:solidFill>
                  <a:srgbClr val="39536b"/>
                </a:solidFill>
                <a:latin typeface="Arial Narrow"/>
              </a:rPr>
              <a:t>Estimating with PROBE I</a:t>
            </a:r>
            <a:endParaRPr b="0" lang="en-US" sz="45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213160" y="1546200"/>
            <a:ext cx="267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c2108"/>
                </a:solidFill>
                <a:latin typeface="Arial"/>
              </a:rPr>
              <a:t>SM</a:t>
            </a:r>
            <a:endParaRPr b="0" lang="en-US" sz="1400" spc="-1" strike="noStrike">
              <a:solidFill>
                <a:srgbClr val="39536b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870120" y="156672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SP uses the PROBE method to estimate and plan projec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BE stands for PROxy Based Estimat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BE uses proxies to estimate program size and development tim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good proxy will help you to make accurate estimat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title"/>
          </p:nvPr>
        </p:nvSpPr>
        <p:spPr>
          <a:xfrm>
            <a:off x="871200" y="9032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stimating with PROB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84160" y="9032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PROBE Estimating Method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1365120" y="1622520"/>
            <a:ext cx="6337440" cy="502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71200" y="9032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nceptual Design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21960" y="15541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first estimating step is to make a conceptual desig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late the requirements to the produc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ine the product elements that will produce the desired func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imate the size of what you plan to buil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most projects, the conceptual design can be produced relatively quickly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the PSP exercise programs, try to limit your conceptual design time to 10, or at most 20, minut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71200" y="9032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nceptual Design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21960" y="15541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make a conceptual design, identify the product functions and the program parts needed to produce the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effect, you say: “If I had the following parts, I could build this product.”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n, compare these parts to programs you have already written and estimate their siz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nally, combine the part estimates to give total siz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you do not understand the product well enough to make a conceptual design, you do not know enough to make a pla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85600" y="8888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ize Estimating Proxies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09720" y="156672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basic issu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ood size measures are detail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t is generally hard to visualize product details early in a project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lternativ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ait to estimate until you have the detail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ke your best gue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dentify a suitable prox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85600" y="8762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ize Estimating Proxies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07560" y="155232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good proxy should correlate closely to development cos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good proxy should be easy to visualize early in developme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t should also be a physical entity that can be measur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81000" y="953640"/>
            <a:ext cx="742176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ample: Building Cost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ble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builder needs to know the floor area (in sq. ft.) to estimate the cost of construc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ents normally cannot describe their needs in square feet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y usually can describe the type and number of rooms they wa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olu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rooms as a proxy for siz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historical (typical) data to translate from rooms to square fee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Example: Customer Requirements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017720" y="1709640"/>
          <a:ext cx="7413480" cy="4592880"/>
        </p:xfrm>
        <a:graphic>
          <a:graphicData uri="http://schemas.openxmlformats.org/drawingml/2006/table">
            <a:tbl>
              <a:tblPr/>
              <a:tblGrid>
                <a:gridCol w="2697120"/>
                <a:gridCol w="4716360"/>
              </a:tblGrid>
              <a:tr h="657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Bedrooms: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 large, 2 medium, and 1 small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4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Bathrooms: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 large and 2 medium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7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Kitchen: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 medium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5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Living room: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 large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7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Dining room: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 medium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41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Family room: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 large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7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Utility: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 medium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73080" y="9522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Historical Building Data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1017720" y="1709640"/>
          <a:ext cx="7416720" cy="4592880"/>
        </p:xfrm>
        <a:graphic>
          <a:graphicData uri="http://schemas.openxmlformats.org/drawingml/2006/table">
            <a:tbl>
              <a:tblPr/>
              <a:tblGrid>
                <a:gridCol w="3249360"/>
                <a:gridCol w="1389240"/>
                <a:gridCol w="1388880"/>
                <a:gridCol w="1389240"/>
              </a:tblGrid>
              <a:tr h="57492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Small</a:t>
                      </a: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Medium</a:t>
                      </a: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Large</a:t>
                      </a: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312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Bedrooms</a:t>
                      </a: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 marL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90</a:t>
                      </a: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40</a:t>
                      </a: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200</a:t>
                      </a: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456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Bathrooms</a:t>
                      </a: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 marL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60</a:t>
                      </a: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456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Kitchens</a:t>
                      </a: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 marL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30</a:t>
                      </a: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60</a:t>
                      </a: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312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Living rooms</a:t>
                      </a: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 marL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50</a:t>
                      </a: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250</a:t>
                      </a: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400</a:t>
                      </a: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456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Dining rooms</a:t>
                      </a: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 marL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40</a:t>
                      </a: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200</a:t>
                      </a: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312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Family rooms</a:t>
                      </a: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 marL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50</a:t>
                      </a: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240</a:t>
                      </a: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340</a:t>
                      </a: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492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Utility</a:t>
                      </a: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 marL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80</a:t>
                      </a: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65160" y="942480"/>
            <a:ext cx="742176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roxy Calculat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874800" y="1579680"/>
          <a:ext cx="7627680" cy="4655880"/>
        </p:xfrm>
        <a:graphic>
          <a:graphicData uri="http://schemas.openxmlformats.org/drawingml/2006/table">
            <a:tbl>
              <a:tblPr/>
              <a:tblGrid>
                <a:gridCol w="2442960"/>
                <a:gridCol w="1776240"/>
                <a:gridCol w="363600"/>
                <a:gridCol w="904680"/>
                <a:gridCol w="625680"/>
                <a:gridCol w="644400"/>
                <a:gridCol w="8701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Bedroom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 large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 x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200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200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Bedroom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2 medium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2 x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40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280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Bedroom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 small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 x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90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90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Bathroom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 large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 x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Bathroom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2 medium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2 x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Kitchen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 medium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 x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30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30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Living room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 large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 x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400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400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Dining room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 medium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 x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40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40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Family room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 large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 x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340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340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Utility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 medium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 x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=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Total (sq. ft.)</a:t>
                      </a: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=</a:t>
                      </a: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870</a:t>
                      </a: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9536b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44200" y="9032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ecture Topic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80560" y="155232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lanning overview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y estimate size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ze estimating principl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ROBE estimating metho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ze estimating proxi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imating exampl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60400" y="8776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ample: The Builder’s Estimate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21960" y="155232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first estimation step provides the builder with the proxy data for room siz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ever, there are many other cost elements in home construc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uilders typically have extensive data to relate room size to the other building cos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ith agreed initial plans, builders typically require detailed architectural specifications and estimates before quoting a pric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85600" y="9032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ample Product Proxies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21960" y="155232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asses, functions, and procedur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duct eleme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atabase eleme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creens, reports, scripts, fil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ook chapt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44200" y="8762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asses as Proxies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82720" y="15681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rrelation with development hou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umbers of classes correlates reasonably well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ass size correlates very closel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ass size can be estimated using historical dat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rogram size estimate is then calculated from the historical relationship between total class size and program siz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ith a good correlation, calculate program size from the relationship between class size and program siz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84160" y="8762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asses as Proxies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09720" y="158112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classes are selected as application entities, they can be visualized early in developme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unctions and procedures can often be estimated in the same wa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asses, functions, procedures, and their sizes can be automatically count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92080" y="83160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600" spc="-1" strike="noStrike">
                <a:solidFill>
                  <a:srgbClr val="9c2108"/>
                </a:solidFill>
                <a:latin typeface="Arial"/>
              </a:rPr>
              <a:t>Class LOC Correlation With Development Hours</a:t>
            </a:r>
            <a:endParaRPr b="1" lang="en-US" sz="2600" spc="-1" strike="noStrike">
              <a:solidFill>
                <a:srgbClr val="9c2108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628560" y="2120760"/>
          <a:ext cx="7372440" cy="438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8560" y="2120760"/>
                    <a:ext cx="7372440" cy="43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58600" y="8888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Other Example Proxi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67960" y="15541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ossible candidat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creens, reports, scripts, fil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ook chapt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the number of items correlates with development, you estimate the number of item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ith a suitable proxy size measure, you can often estimate proxy size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Chapter Pages Versus Time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1004760" y="1504800"/>
            <a:ext cx="7220160" cy="501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Database Elements Versus Time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487440" y="1488960"/>
            <a:ext cx="8351640" cy="487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58960" y="876240"/>
            <a:ext cx="789768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stimating with Proxi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53560" y="15397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nce you have selected a proxy, you mus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7760" indent="-2332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btain proxy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7760" indent="-2332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rganize the data for use in estimat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7760" indent="-2332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the data to estimate the size of the proxies in the new progra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7760" indent="-2332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mbine the proxy estimates into the product estimat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7760" indent="-2332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ke a resource estimat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7760" indent="-2332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duce a project pla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ROBE method shows you how to perform these step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85720" y="264960"/>
            <a:ext cx="855504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br>
              <a:rPr sz="4100"/>
            </a:br>
            <a:endParaRPr b="0" lang="en-US" sz="4100" spc="-1" strike="noStrike">
              <a:solidFill>
                <a:srgbClr val="39536b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71200" y="8762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Organizing Proxy Data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80560" y="15541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common way to estimate is to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221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reak the planned product into par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221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late these planned parts to parts you have already buil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221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the size of the previously built parts to estimate the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221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zes of the new par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do this, you need size ranges for the types of parts you typically develop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each product type, you also need size ranges to help judge the sizes of the new par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98200" y="8762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lanning Overview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87040" y="153684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lan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llow you to make commitments that you can mee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vide the basis for agreeing on job scope, schedule, and resourc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uide the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acilitate progress tracking and report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elp ensure that key tasks are not overlooked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ample C++ Class Size Rang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1017720" y="2100240"/>
          <a:ext cx="7413480" cy="4202280"/>
        </p:xfrm>
        <a:graphic>
          <a:graphicData uri="http://schemas.openxmlformats.org/drawingml/2006/table">
            <a:tbl>
              <a:tblPr/>
              <a:tblGrid>
                <a:gridCol w="1592280"/>
                <a:gridCol w="879480"/>
                <a:gridCol w="1234800"/>
                <a:gridCol w="1235160"/>
                <a:gridCol w="1236600"/>
                <a:gridCol w="1235160"/>
              </a:tblGrid>
              <a:tr h="60012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Type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 marL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VS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M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VL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012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Calculation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 marL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2.34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.13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1.25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24.66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4.04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012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Data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 marL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2.60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4.79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8.84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6.31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30.09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156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I/O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 marL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9.01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2.06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6.15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21.62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28.93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012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Logic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 marL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7.55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0.98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5.98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23.25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33.83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012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Set-up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 marL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3.88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.04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6.56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8.53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1.09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0120">
                <a:tc>
                  <a:txBody>
                    <a:bodyPr lIns="7200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 marL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3.75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8.00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7.07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36.41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77.66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2919240" y="1682640"/>
            <a:ext cx="4853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Arial"/>
              </a:rPr>
              <a:t>LOC per item</a:t>
            </a:r>
            <a:endParaRPr b="0" lang="en-US" sz="2000" spc="-1" strike="noStrike">
              <a:solidFill>
                <a:srgbClr val="39536b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61840" y="8888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stimating Program Siz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58960" y="155412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Just as homes have square feet that are not in rooms, programs have code that is not in the program par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clud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clara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ther overhead func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development job, however, must also produce this overhead cod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size of this additional overhead code is usually proportional to the size of the program’s par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61840" y="8888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stimating Development Tim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58960" y="155412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ith sound estimating methods, actual program size will be closely related to estimated program siz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differences will be due to the overhead code and the estimating error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ctual development time is also often related to estimated program siz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gain, with sound methods, the differences will be largely due to overhead activities and estimating error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tatistically-Based Estimat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BE uses historical data, linear regression, and the prediction interval to produce estimates of known accurac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gression provides the best fit, or minimum variance, of a line to these dat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variance of the data is used to determine the likely estimation error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greater the variance, the larger the likely error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Regression Line for Program Siz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957240" y="1995480"/>
            <a:ext cx="7494480" cy="441468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3903480" y="1690560"/>
            <a:ext cx="1867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27 C++ programs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63120" y="933120"/>
            <a:ext cx="780732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Regression Line for Development Time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817560" y="1952640"/>
            <a:ext cx="7664400" cy="45226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3561840" y="1652760"/>
            <a:ext cx="1867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27 C++ programs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stimating Size and Time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017720" y="1709640"/>
            <a:ext cx="7573680" cy="45928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project a program’s size or development time, find the equation for the regression lin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n use the regression formula to project size and tim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 is the estimated proxy siz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1585800" y="4324320"/>
                <a:ext cx="5249880" cy="12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dded</m:t>
                        </m:r>
                        <m:r>
                          <m:t xml:space="preserve">∧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odifie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ize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z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ze</m:t>
                            </m:r>
                          </m:sub>
                        </m:sSub>
                        <m:r>
                          <m:t xml:space="preserve">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E</m:t>
                            </m:r>
                          </m:e>
                        </m:d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evelopmen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ime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ime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ime</m:t>
                            </m:r>
                          </m:sub>
                        </m:sSub>
                        <m:r>
                          <m:t xml:space="preserve">∗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E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61840" y="8888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stimating Size and Time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72640" y="155556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alculate the regression parameters </a:t>
            </a:r>
            <a:r>
              <a:rPr b="0" lang="en-US" sz="2200" spc="-1" strike="noStrike">
                <a:solidFill>
                  <a:srgbClr val="39536b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 baseline="-25000">
                <a:solidFill>
                  <a:srgbClr val="39536b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and </a:t>
            </a:r>
            <a:r>
              <a:rPr b="0" lang="en-US" sz="2200" spc="-1" strike="noStrike">
                <a:solidFill>
                  <a:srgbClr val="39536b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 baseline="-25000">
                <a:solidFill>
                  <a:srgbClr val="39536b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from data on previously developed program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x, use estimated proxy size (E)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y, use the actua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dded and modified size for the size estimat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tal development time for the time estimat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alculate two sets of </a:t>
            </a:r>
            <a:r>
              <a:rPr b="0" lang="en-US" sz="2200" spc="-1" strike="noStrike">
                <a:solidFill>
                  <a:srgbClr val="39536b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 baseline="-25000">
                <a:solidFill>
                  <a:srgbClr val="39536b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and </a:t>
            </a:r>
            <a:r>
              <a:rPr b="0" lang="en-US" sz="2200" spc="-1" strike="noStrike">
                <a:solidFill>
                  <a:srgbClr val="39536b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 baseline="-25000">
                <a:solidFill>
                  <a:srgbClr val="39536b"/>
                </a:solidFill>
                <a:latin typeface="Arial"/>
              </a:rPr>
              <a:t>1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gression parameters: one for size and the other for tim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47440" y="8888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alculating Total Program Size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58960" y="15681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tal program size includes added, modified, deleted, base, and reused cod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modifying an existing program, base code is the size of the unmodified existing progra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modifying programs, include their unmodified size in base code and not in reu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ile base code is a form of reuse, the PSP only counts unmodified code from the reuse library as reus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63280" y="8888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mpleting the Estimate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58960" y="15681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complete the size estimate, calculate th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jected added and modified size with the size regression paramet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tal program size, including added, modified, deleted, base, and reused cod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imated new reusable code to be added to the reuse librar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completed estimate includes estimated development time calculated with the time regression paramete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55360" y="7966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Project Planning Framework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958680" y="1620720"/>
            <a:ext cx="7797960" cy="485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63280" y="86040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mpleting the Estimate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72640" y="156816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ith the size and time estimates, calculate th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70% upper (UPI) and lower (LPI) prediction intervals for projected program siz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70% upper (UPI) and lower (LPI) prediction intervals for development tim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rediction interval is covered in lecture 4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ethods for estimating with limited data are covered in the PROBE tutorial and discussed further in lecture 4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mpleted Example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1017720" y="1709640"/>
          <a:ext cx="5927760" cy="3019680"/>
        </p:xfrm>
        <a:graphic>
          <a:graphicData uri="http://schemas.openxmlformats.org/drawingml/2006/table">
            <a:tbl>
              <a:tblPr/>
              <a:tblGrid>
                <a:gridCol w="2590560"/>
                <a:gridCol w="3337200"/>
              </a:tblGrid>
              <a:tr h="406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Base program (B)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695 LOC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0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Deleted (D)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0 LOC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24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Modified (M)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 LOC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Base additions (BA)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0 LOC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46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Added parts (PA)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15+197+49 = 361LOC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04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Reused parts (R)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69 LOC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2160">
                <a:tc>
                  <a:txBody>
                    <a:bodyPr lIns="72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Estimated size E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720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= BA + PA + M = 366 LOC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899640" y="156816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arting with E = 366, use the size regression parameters to calculate the projected size (P)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 baseline="-25000">
                <a:solidFill>
                  <a:srgbClr val="39536b"/>
                </a:solidFill>
                <a:latin typeface="Arial"/>
              </a:rPr>
              <a:t>0Size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= 62 and </a:t>
            </a:r>
            <a:r>
              <a:rPr b="0" lang="en-US" sz="2200" spc="-1" strike="noStrike">
                <a:solidFill>
                  <a:srgbClr val="39536b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 baseline="-25000">
                <a:solidFill>
                  <a:srgbClr val="39536b"/>
                </a:solidFill>
                <a:latin typeface="Arial"/>
              </a:rPr>
              <a:t>1Size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= 1.3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jected size P = 62 + 1.3 </a:t>
            </a:r>
            <a:r>
              <a:rPr b="0" lang="en-US" sz="2200" spc="-1" strike="noStrike" baseline="-2000">
                <a:solidFill>
                  <a:srgbClr val="39536b"/>
                </a:solidFill>
                <a:latin typeface="Arial"/>
              </a:rPr>
              <a:t>*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366 = 538 LOC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tal size T = 538 + 695 - 5 + 169 = 1397 LOC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imated total new reusable = 49 LOC </a:t>
            </a:r>
            <a:r>
              <a:rPr b="1" lang="en-US" sz="2400" spc="-1" strike="noStrike">
                <a:solidFill>
                  <a:srgbClr val="39536b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title"/>
          </p:nvPr>
        </p:nvSpPr>
        <p:spPr>
          <a:xfrm>
            <a:off x="863280" y="86040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mpleted Example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029600" y="5931000"/>
            <a:ext cx="57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Note: Modified size is subtracted so it is not included twice.</a:t>
            </a:r>
            <a:endParaRPr b="0" lang="en-US" sz="1600" spc="-1" strike="noStrike">
              <a:solidFill>
                <a:srgbClr val="39536b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mpleted Example -3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017720" y="1709280"/>
            <a:ext cx="6930720" cy="1040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tarting with E = 366, use the time regression parameters to calculate development tim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1084320" y="2890800"/>
                <a:ext cx="5145120" cy="46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evelopmen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me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time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time</m:t>
                        </m:r>
                      </m:sub>
                    </m:sSub>
                    <m:r>
                      <m:t xml:space="preserve">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E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5" name=""/>
          <p:cNvSpPr/>
          <p:nvPr/>
        </p:nvSpPr>
        <p:spPr>
          <a:xfrm>
            <a:off x="1163520" y="3794040"/>
            <a:ext cx="6883560" cy="9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 baseline="-25000">
                <a:solidFill>
                  <a:srgbClr val="39536b"/>
                </a:solidFill>
                <a:latin typeface="Arial"/>
              </a:rPr>
              <a:t>0Time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= 108 and </a:t>
            </a:r>
            <a:r>
              <a:rPr b="0" lang="en-US" sz="2000" spc="-1" strike="noStrike">
                <a:solidFill>
                  <a:srgbClr val="39536b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 baseline="-25000">
                <a:solidFill>
                  <a:srgbClr val="39536b"/>
                </a:solidFill>
                <a:latin typeface="Arial"/>
              </a:rPr>
              <a:t>1Time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= 2.95</a:t>
            </a:r>
            <a:endParaRPr b="0" lang="en-US" sz="20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evelopment time = 108 + 2.95 </a:t>
            </a:r>
            <a:r>
              <a:rPr b="0" lang="en-US" sz="2000" spc="-1" strike="noStrike" baseline="-2000">
                <a:solidFill>
                  <a:srgbClr val="39536b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366 = 1186 min.</a:t>
            </a:r>
            <a:endParaRPr b="0" lang="en-US" sz="2000" spc="-1" strike="noStrike">
              <a:solidFill>
                <a:srgbClr val="39536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44200" y="8762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ssages to Rememb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80560" y="15667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ccurate size estimates will help you to make better development pla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imating skill improves with practic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defined and measured process provides a repeatable basis for improveme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make accurate estimates, you must use historical data and follow sound method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ROBE method shows you how to do thi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84160" y="8902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Planning Proces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82720" y="156672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fore making the plan, you must have a requireme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better the requirement, the better the pla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ith ill-defined requirements, expect to make frequent plan updat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lans are most accurate when based on size estimates and historical data. 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ith a size estimate and historical data, you ca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dentify the data on the most similar prior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ase the resource estimate on these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71200" y="8762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ize Estimating Principles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58960" y="154116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imating is an uncertain proce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o one knows how big the product will b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earlier the estimate, the less is know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imates can be biased by business and other pressur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imating is an intuitive learning proce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bility improves with experience and dat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ome people will be better at estimating than othe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80560" y="1552320"/>
            <a:ext cx="741060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imating is a skill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mprovement will be gradual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may never get very goo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objective is to become consiste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will then understand the variability of your estimat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seek an even balance between under- and overestimat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884160" y="8902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ize Estimating Principles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81000" y="955440"/>
            <a:ext cx="742176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Balanced Estimates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44640" y="1760040"/>
            <a:ext cx="3510000" cy="4676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jority are under-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imat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alance of over- an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derestimat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uch tighter balanc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round zer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37280" y="1860480"/>
            <a:ext cx="842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28360" y="1914480"/>
            <a:ext cx="72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203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PSP 0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24320" y="3532320"/>
            <a:ext cx="8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15760" y="3586320"/>
            <a:ext cx="72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203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PSP 1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37280" y="5202360"/>
            <a:ext cx="842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328360" y="5256360"/>
            <a:ext cx="72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203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PSP 2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881680" y="6570720"/>
            <a:ext cx="19987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163000" y="3095640"/>
            <a:ext cx="4554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254440" y="314784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183440" y="3095640"/>
            <a:ext cx="3398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275600" y="3147840"/>
            <a:ext cx="192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%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97600" y="3095640"/>
            <a:ext cx="49536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89760" y="3147840"/>
            <a:ext cx="7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127200" y="314784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41720" y="3095640"/>
            <a:ext cx="4939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32440" y="3147840"/>
            <a:ext cx="7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71320" y="314784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00%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163000" y="3095640"/>
            <a:ext cx="4554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254440" y="314784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183440" y="3095640"/>
            <a:ext cx="3398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275600" y="3147840"/>
            <a:ext cx="192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%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997600" y="3095640"/>
            <a:ext cx="49536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89760" y="3147840"/>
            <a:ext cx="7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27200" y="314784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941720" y="3095640"/>
            <a:ext cx="4939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32440" y="3147840"/>
            <a:ext cx="7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71320" y="314784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00%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5251320" y="3040200"/>
            <a:ext cx="180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780160" y="3039840"/>
            <a:ext cx="144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6308640" y="3040200"/>
            <a:ext cx="180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6850080" y="3039840"/>
            <a:ext cx="144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7378560" y="3040200"/>
            <a:ext cx="180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7905600" y="3039840"/>
            <a:ext cx="180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8434440" y="3040200"/>
            <a:ext cx="144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253120" y="3052800"/>
            <a:ext cx="31687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251320" y="3040200"/>
            <a:ext cx="180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5780160" y="3039840"/>
            <a:ext cx="144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308640" y="3040200"/>
            <a:ext cx="180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850080" y="3039840"/>
            <a:ext cx="144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7378560" y="3040200"/>
            <a:ext cx="180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7905600" y="3039840"/>
            <a:ext cx="180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8434440" y="3040200"/>
            <a:ext cx="144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3120" y="3052800"/>
            <a:ext cx="31687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967280" y="2941560"/>
            <a:ext cx="24300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59080" y="2994120"/>
            <a:ext cx="97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889520" y="2247840"/>
            <a:ext cx="3016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80600" y="2300400"/>
            <a:ext cx="15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89520" y="1554120"/>
            <a:ext cx="3016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980600" y="1606680"/>
            <a:ext cx="15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967280" y="2941560"/>
            <a:ext cx="24300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59080" y="2994120"/>
            <a:ext cx="97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89520" y="2247840"/>
            <a:ext cx="3016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80600" y="2300400"/>
            <a:ext cx="15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89520" y="1554120"/>
            <a:ext cx="3016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980600" y="1606680"/>
            <a:ext cx="15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189400" y="3052800"/>
            <a:ext cx="6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189400" y="2359080"/>
            <a:ext cx="6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189400" y="1665360"/>
            <a:ext cx="6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5251320" y="1652760"/>
            <a:ext cx="1800" cy="139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5189400" y="3052800"/>
            <a:ext cx="6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189400" y="2359080"/>
            <a:ext cx="6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5189400" y="1665360"/>
            <a:ext cx="6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5251320" y="1652760"/>
            <a:ext cx="1800" cy="139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251320" y="1665360"/>
            <a:ext cx="3171960" cy="137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48160" y="2173320"/>
            <a:ext cx="2448000" cy="873000"/>
          </a:xfrm>
          <a:custGeom>
            <a:avLst/>
            <a:gdLst/>
            <a:ahLst/>
            <a:rect l="l" t="t" r="r" b="b"/>
            <a:pathLst>
              <a:path w="1542" h="550">
                <a:moveTo>
                  <a:pt x="1542" y="550"/>
                </a:moveTo>
                <a:lnTo>
                  <a:pt x="0" y="550"/>
                </a:lnTo>
                <a:lnTo>
                  <a:pt x="0" y="526"/>
                </a:lnTo>
                <a:lnTo>
                  <a:pt x="333" y="526"/>
                </a:lnTo>
                <a:lnTo>
                  <a:pt x="406" y="526"/>
                </a:lnTo>
                <a:lnTo>
                  <a:pt x="471" y="485"/>
                </a:lnTo>
                <a:lnTo>
                  <a:pt x="536" y="510"/>
                </a:lnTo>
                <a:lnTo>
                  <a:pt x="601" y="526"/>
                </a:lnTo>
                <a:lnTo>
                  <a:pt x="674" y="461"/>
                </a:lnTo>
                <a:lnTo>
                  <a:pt x="739" y="526"/>
                </a:lnTo>
                <a:lnTo>
                  <a:pt x="804" y="510"/>
                </a:lnTo>
                <a:lnTo>
                  <a:pt x="869" y="396"/>
                </a:lnTo>
                <a:lnTo>
                  <a:pt x="942" y="396"/>
                </a:lnTo>
                <a:lnTo>
                  <a:pt x="1007" y="202"/>
                </a:lnTo>
                <a:lnTo>
                  <a:pt x="1072" y="113"/>
                </a:lnTo>
                <a:lnTo>
                  <a:pt x="1137" y="137"/>
                </a:lnTo>
                <a:lnTo>
                  <a:pt x="1202" y="0"/>
                </a:lnTo>
                <a:lnTo>
                  <a:pt x="1242" y="89"/>
                </a:lnTo>
                <a:lnTo>
                  <a:pt x="1307" y="307"/>
                </a:lnTo>
                <a:lnTo>
                  <a:pt x="1340" y="202"/>
                </a:lnTo>
                <a:lnTo>
                  <a:pt x="1404" y="396"/>
                </a:lnTo>
                <a:lnTo>
                  <a:pt x="1469" y="461"/>
                </a:lnTo>
                <a:lnTo>
                  <a:pt x="1542" y="526"/>
                </a:lnTo>
                <a:lnTo>
                  <a:pt x="1542" y="550"/>
                </a:lnTo>
                <a:close/>
              </a:path>
            </a:pathLst>
          </a:custGeom>
          <a:solidFill>
            <a:srgbClr val="dd14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48160" y="2173320"/>
            <a:ext cx="2448000" cy="873000"/>
          </a:xfrm>
          <a:custGeom>
            <a:avLst/>
            <a:gdLst/>
            <a:ahLst/>
            <a:rect l="l" t="t" r="r" b="b"/>
            <a:pathLst>
              <a:path w="1542" h="550">
                <a:moveTo>
                  <a:pt x="1542" y="550"/>
                </a:moveTo>
                <a:lnTo>
                  <a:pt x="0" y="550"/>
                </a:lnTo>
                <a:lnTo>
                  <a:pt x="0" y="526"/>
                </a:lnTo>
                <a:lnTo>
                  <a:pt x="333" y="526"/>
                </a:lnTo>
                <a:lnTo>
                  <a:pt x="406" y="526"/>
                </a:lnTo>
                <a:lnTo>
                  <a:pt x="471" y="485"/>
                </a:lnTo>
                <a:lnTo>
                  <a:pt x="536" y="510"/>
                </a:lnTo>
                <a:lnTo>
                  <a:pt x="601" y="526"/>
                </a:lnTo>
                <a:lnTo>
                  <a:pt x="674" y="461"/>
                </a:lnTo>
                <a:lnTo>
                  <a:pt x="739" y="526"/>
                </a:lnTo>
                <a:lnTo>
                  <a:pt x="804" y="510"/>
                </a:lnTo>
                <a:lnTo>
                  <a:pt x="869" y="396"/>
                </a:lnTo>
                <a:lnTo>
                  <a:pt x="942" y="396"/>
                </a:lnTo>
                <a:lnTo>
                  <a:pt x="1007" y="202"/>
                </a:lnTo>
                <a:lnTo>
                  <a:pt x="1072" y="113"/>
                </a:lnTo>
                <a:lnTo>
                  <a:pt x="1137" y="137"/>
                </a:lnTo>
                <a:lnTo>
                  <a:pt x="1202" y="0"/>
                </a:lnTo>
                <a:lnTo>
                  <a:pt x="1242" y="89"/>
                </a:lnTo>
                <a:lnTo>
                  <a:pt x="1307" y="307"/>
                </a:lnTo>
                <a:lnTo>
                  <a:pt x="1340" y="202"/>
                </a:lnTo>
                <a:lnTo>
                  <a:pt x="1404" y="396"/>
                </a:lnTo>
                <a:lnTo>
                  <a:pt x="1469" y="461"/>
                </a:lnTo>
                <a:lnTo>
                  <a:pt x="1542" y="526"/>
                </a:lnTo>
                <a:lnTo>
                  <a:pt x="1542" y="55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150400" y="4727520"/>
            <a:ext cx="45540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240040" y="478008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170840" y="4727520"/>
            <a:ext cx="3394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62640" y="4780080"/>
            <a:ext cx="192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%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985000" y="4727520"/>
            <a:ext cx="49500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76800" y="4780080"/>
            <a:ext cx="7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14240" y="478008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927680" y="4727520"/>
            <a:ext cx="49536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019840" y="4780080"/>
            <a:ext cx="7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58720" y="478008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00%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150400" y="4727520"/>
            <a:ext cx="45540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240040" y="478008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170840" y="4727520"/>
            <a:ext cx="3394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262640" y="4780080"/>
            <a:ext cx="192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%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985000" y="4727520"/>
            <a:ext cx="49500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76800" y="4780080"/>
            <a:ext cx="7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114240" y="478008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27680" y="4727520"/>
            <a:ext cx="49536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019840" y="4780080"/>
            <a:ext cx="7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58720" y="478008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00%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238720" y="4672080"/>
            <a:ext cx="144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767560" y="4671720"/>
            <a:ext cx="144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6296040" y="4672080"/>
            <a:ext cx="144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6837480" y="4671720"/>
            <a:ext cx="144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7365960" y="4672080"/>
            <a:ext cx="180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7893000" y="4671720"/>
            <a:ext cx="180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8421840" y="4672080"/>
            <a:ext cx="144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240160" y="4684680"/>
            <a:ext cx="31687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5238720" y="4672080"/>
            <a:ext cx="144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767560" y="4671720"/>
            <a:ext cx="144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6296040" y="4672080"/>
            <a:ext cx="144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6837480" y="4671720"/>
            <a:ext cx="144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7365960" y="4672080"/>
            <a:ext cx="180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7893000" y="4671720"/>
            <a:ext cx="180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8421840" y="4672080"/>
            <a:ext cx="144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240160" y="4684680"/>
            <a:ext cx="31687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954680" y="4573440"/>
            <a:ext cx="24264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046480" y="4626000"/>
            <a:ext cx="97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876920" y="3879720"/>
            <a:ext cx="3016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968000" y="3932280"/>
            <a:ext cx="15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76920" y="3186000"/>
            <a:ext cx="3016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968000" y="3238560"/>
            <a:ext cx="15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954680" y="4573440"/>
            <a:ext cx="24264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046480" y="4626000"/>
            <a:ext cx="97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876920" y="3879720"/>
            <a:ext cx="3016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968000" y="3932280"/>
            <a:ext cx="15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876920" y="3186000"/>
            <a:ext cx="3016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968000" y="3238560"/>
            <a:ext cx="15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5176800" y="4684680"/>
            <a:ext cx="61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5176800" y="3990960"/>
            <a:ext cx="6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5176800" y="3297240"/>
            <a:ext cx="6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5238720" y="3284280"/>
            <a:ext cx="1440" cy="139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5176800" y="4684680"/>
            <a:ext cx="61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176800" y="3990960"/>
            <a:ext cx="6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5176800" y="3297240"/>
            <a:ext cx="6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238720" y="3284280"/>
            <a:ext cx="1440" cy="139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238720" y="3297240"/>
            <a:ext cx="3171960" cy="137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232240" y="3598920"/>
            <a:ext cx="2654640" cy="1079280"/>
          </a:xfrm>
          <a:custGeom>
            <a:avLst/>
            <a:gdLst/>
            <a:ahLst/>
            <a:rect l="l" t="t" r="r" b="b"/>
            <a:pathLst>
              <a:path w="1672" h="680">
                <a:moveTo>
                  <a:pt x="1672" y="680"/>
                </a:moveTo>
                <a:lnTo>
                  <a:pt x="0" y="680"/>
                </a:lnTo>
                <a:lnTo>
                  <a:pt x="0" y="656"/>
                </a:lnTo>
                <a:lnTo>
                  <a:pt x="333" y="656"/>
                </a:lnTo>
                <a:lnTo>
                  <a:pt x="536" y="640"/>
                </a:lnTo>
                <a:lnTo>
                  <a:pt x="666" y="640"/>
                </a:lnTo>
                <a:lnTo>
                  <a:pt x="804" y="591"/>
                </a:lnTo>
                <a:lnTo>
                  <a:pt x="869" y="615"/>
                </a:lnTo>
                <a:lnTo>
                  <a:pt x="934" y="656"/>
                </a:lnTo>
                <a:lnTo>
                  <a:pt x="1007" y="526"/>
                </a:lnTo>
                <a:lnTo>
                  <a:pt x="1072" y="502"/>
                </a:lnTo>
                <a:lnTo>
                  <a:pt x="1137" y="372"/>
                </a:lnTo>
                <a:lnTo>
                  <a:pt x="1202" y="437"/>
                </a:lnTo>
                <a:lnTo>
                  <a:pt x="1266" y="243"/>
                </a:lnTo>
                <a:lnTo>
                  <a:pt x="1307" y="0"/>
                </a:lnTo>
                <a:lnTo>
                  <a:pt x="1372" y="267"/>
                </a:lnTo>
                <a:lnTo>
                  <a:pt x="1404" y="219"/>
                </a:lnTo>
                <a:lnTo>
                  <a:pt x="1469" y="372"/>
                </a:lnTo>
                <a:lnTo>
                  <a:pt x="1534" y="550"/>
                </a:lnTo>
                <a:lnTo>
                  <a:pt x="1607" y="591"/>
                </a:lnTo>
                <a:lnTo>
                  <a:pt x="1672" y="656"/>
                </a:lnTo>
                <a:lnTo>
                  <a:pt x="1672" y="680"/>
                </a:lnTo>
                <a:close/>
              </a:path>
            </a:pathLst>
          </a:custGeom>
          <a:solidFill>
            <a:srgbClr val="dd14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32240" y="3598920"/>
            <a:ext cx="2654640" cy="1079280"/>
          </a:xfrm>
          <a:custGeom>
            <a:avLst/>
            <a:gdLst/>
            <a:ahLst/>
            <a:rect l="l" t="t" r="r" b="b"/>
            <a:pathLst>
              <a:path w="1672" h="680">
                <a:moveTo>
                  <a:pt x="1672" y="680"/>
                </a:moveTo>
                <a:lnTo>
                  <a:pt x="0" y="680"/>
                </a:lnTo>
                <a:lnTo>
                  <a:pt x="0" y="656"/>
                </a:lnTo>
                <a:lnTo>
                  <a:pt x="333" y="656"/>
                </a:lnTo>
                <a:lnTo>
                  <a:pt x="536" y="640"/>
                </a:lnTo>
                <a:lnTo>
                  <a:pt x="666" y="640"/>
                </a:lnTo>
                <a:lnTo>
                  <a:pt x="804" y="591"/>
                </a:lnTo>
                <a:lnTo>
                  <a:pt x="869" y="615"/>
                </a:lnTo>
                <a:lnTo>
                  <a:pt x="934" y="656"/>
                </a:lnTo>
                <a:lnTo>
                  <a:pt x="1007" y="526"/>
                </a:lnTo>
                <a:lnTo>
                  <a:pt x="1072" y="502"/>
                </a:lnTo>
                <a:lnTo>
                  <a:pt x="1137" y="372"/>
                </a:lnTo>
                <a:lnTo>
                  <a:pt x="1202" y="437"/>
                </a:lnTo>
                <a:lnTo>
                  <a:pt x="1266" y="243"/>
                </a:lnTo>
                <a:lnTo>
                  <a:pt x="1307" y="0"/>
                </a:lnTo>
                <a:lnTo>
                  <a:pt x="1372" y="267"/>
                </a:lnTo>
                <a:lnTo>
                  <a:pt x="1404" y="219"/>
                </a:lnTo>
                <a:lnTo>
                  <a:pt x="1469" y="372"/>
                </a:lnTo>
                <a:lnTo>
                  <a:pt x="1534" y="550"/>
                </a:lnTo>
                <a:lnTo>
                  <a:pt x="1607" y="591"/>
                </a:lnTo>
                <a:lnTo>
                  <a:pt x="1672" y="656"/>
                </a:lnTo>
                <a:lnTo>
                  <a:pt x="1672" y="68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163000" y="6399360"/>
            <a:ext cx="455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254440" y="645156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83440" y="6399360"/>
            <a:ext cx="33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75600" y="6451560"/>
            <a:ext cx="192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%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997600" y="6399360"/>
            <a:ext cx="495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89760" y="6451560"/>
            <a:ext cx="7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127200" y="645156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941720" y="6399360"/>
            <a:ext cx="493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032440" y="6451560"/>
            <a:ext cx="7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071320" y="645156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00%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163000" y="6399360"/>
            <a:ext cx="455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254440" y="645156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183440" y="6399360"/>
            <a:ext cx="33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275600" y="6451560"/>
            <a:ext cx="192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%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97600" y="6399360"/>
            <a:ext cx="495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089760" y="6451560"/>
            <a:ext cx="7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27200" y="645156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941720" y="6399360"/>
            <a:ext cx="493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032440" y="6451560"/>
            <a:ext cx="7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071320" y="645156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00%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251320" y="6342120"/>
            <a:ext cx="180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780160" y="6341760"/>
            <a:ext cx="144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308640" y="6342120"/>
            <a:ext cx="180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850080" y="6341760"/>
            <a:ext cx="144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7378560" y="6342120"/>
            <a:ext cx="180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7905600" y="6341760"/>
            <a:ext cx="180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8434440" y="6342120"/>
            <a:ext cx="144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53120" y="6354720"/>
            <a:ext cx="31687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5251320" y="6342120"/>
            <a:ext cx="180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5780160" y="6341760"/>
            <a:ext cx="144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6308640" y="6342120"/>
            <a:ext cx="180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6850080" y="6341760"/>
            <a:ext cx="144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7378560" y="6342120"/>
            <a:ext cx="180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7905600" y="6341760"/>
            <a:ext cx="180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8434440" y="6342120"/>
            <a:ext cx="144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253120" y="6354720"/>
            <a:ext cx="31687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967280" y="6243480"/>
            <a:ext cx="24300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059080" y="6297480"/>
            <a:ext cx="97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889520" y="5549760"/>
            <a:ext cx="3016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80600" y="5603760"/>
            <a:ext cx="15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889520" y="4856040"/>
            <a:ext cx="3016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980600" y="4908600"/>
            <a:ext cx="15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967280" y="6243480"/>
            <a:ext cx="24300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059080" y="6297480"/>
            <a:ext cx="97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889520" y="5549760"/>
            <a:ext cx="3016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980600" y="5603760"/>
            <a:ext cx="15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889520" y="4856040"/>
            <a:ext cx="3016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980600" y="4908600"/>
            <a:ext cx="15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189400" y="6354720"/>
            <a:ext cx="61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189400" y="5661000"/>
            <a:ext cx="6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5189400" y="4967280"/>
            <a:ext cx="6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5251320" y="4954320"/>
            <a:ext cx="1800" cy="139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5189400" y="6354720"/>
            <a:ext cx="61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5189400" y="5661000"/>
            <a:ext cx="6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5189400" y="4967280"/>
            <a:ext cx="6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251320" y="4954320"/>
            <a:ext cx="1800" cy="139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251320" y="4967280"/>
            <a:ext cx="3171960" cy="137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877000" y="4998960"/>
            <a:ext cx="1919160" cy="1349280"/>
            <a:chOff x="5877000" y="4998960"/>
            <a:chExt cx="1919160" cy="1349280"/>
          </a:xfrm>
        </p:grpSpPr>
        <p:sp>
          <p:nvSpPr>
            <p:cNvPr id="295" name=""/>
            <p:cNvSpPr/>
            <p:nvPr/>
          </p:nvSpPr>
          <p:spPr>
            <a:xfrm>
              <a:off x="5877000" y="4998960"/>
              <a:ext cx="1919160" cy="1349280"/>
            </a:xfrm>
            <a:custGeom>
              <a:avLst/>
              <a:gdLst/>
              <a:ahLst/>
              <a:rect l="l" t="t" r="r" b="b"/>
              <a:pathLst>
                <a:path w="1209" h="850">
                  <a:moveTo>
                    <a:pt x="1209" y="850"/>
                  </a:moveTo>
                  <a:lnTo>
                    <a:pt x="0" y="850"/>
                  </a:lnTo>
                  <a:lnTo>
                    <a:pt x="0" y="826"/>
                  </a:lnTo>
                  <a:lnTo>
                    <a:pt x="138" y="826"/>
                  </a:lnTo>
                  <a:lnTo>
                    <a:pt x="268" y="826"/>
                  </a:lnTo>
                  <a:lnTo>
                    <a:pt x="471" y="826"/>
                  </a:lnTo>
                  <a:lnTo>
                    <a:pt x="536" y="761"/>
                  </a:lnTo>
                  <a:lnTo>
                    <a:pt x="609" y="826"/>
                  </a:lnTo>
                  <a:lnTo>
                    <a:pt x="674" y="786"/>
                  </a:lnTo>
                  <a:lnTo>
                    <a:pt x="739" y="721"/>
                  </a:lnTo>
                  <a:lnTo>
                    <a:pt x="804" y="502"/>
                  </a:lnTo>
                  <a:lnTo>
                    <a:pt x="869" y="437"/>
                  </a:lnTo>
                  <a:lnTo>
                    <a:pt x="909" y="106"/>
                  </a:lnTo>
                  <a:lnTo>
                    <a:pt x="974" y="0"/>
                  </a:lnTo>
                  <a:lnTo>
                    <a:pt x="1007" y="259"/>
                  </a:lnTo>
                  <a:lnTo>
                    <a:pt x="1071" y="607"/>
                  </a:lnTo>
                  <a:lnTo>
                    <a:pt x="1136" y="737"/>
                  </a:lnTo>
                  <a:lnTo>
                    <a:pt x="1209" y="826"/>
                  </a:lnTo>
                  <a:lnTo>
                    <a:pt x="1209" y="850"/>
                  </a:lnTo>
                  <a:close/>
                </a:path>
              </a:pathLst>
            </a:custGeom>
            <a:solidFill>
              <a:srgbClr val="dd1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77000" y="4998960"/>
              <a:ext cx="1919160" cy="1349280"/>
            </a:xfrm>
            <a:custGeom>
              <a:avLst/>
              <a:gdLst/>
              <a:ahLst/>
              <a:rect l="l" t="t" r="r" b="b"/>
              <a:pathLst>
                <a:path w="1209" h="850">
                  <a:moveTo>
                    <a:pt x="1209" y="850"/>
                  </a:moveTo>
                  <a:lnTo>
                    <a:pt x="0" y="850"/>
                  </a:lnTo>
                  <a:lnTo>
                    <a:pt x="0" y="826"/>
                  </a:lnTo>
                  <a:lnTo>
                    <a:pt x="138" y="826"/>
                  </a:lnTo>
                  <a:lnTo>
                    <a:pt x="268" y="826"/>
                  </a:lnTo>
                  <a:lnTo>
                    <a:pt x="471" y="826"/>
                  </a:lnTo>
                  <a:lnTo>
                    <a:pt x="536" y="761"/>
                  </a:lnTo>
                  <a:lnTo>
                    <a:pt x="609" y="826"/>
                  </a:lnTo>
                  <a:lnTo>
                    <a:pt x="674" y="786"/>
                  </a:lnTo>
                  <a:lnTo>
                    <a:pt x="739" y="721"/>
                  </a:lnTo>
                  <a:lnTo>
                    <a:pt x="804" y="502"/>
                  </a:lnTo>
                  <a:lnTo>
                    <a:pt x="869" y="437"/>
                  </a:lnTo>
                  <a:lnTo>
                    <a:pt x="909" y="106"/>
                  </a:lnTo>
                  <a:lnTo>
                    <a:pt x="974" y="0"/>
                  </a:lnTo>
                  <a:lnTo>
                    <a:pt x="1007" y="259"/>
                  </a:lnTo>
                  <a:lnTo>
                    <a:pt x="1071" y="607"/>
                  </a:lnTo>
                  <a:lnTo>
                    <a:pt x="1136" y="737"/>
                  </a:lnTo>
                  <a:lnTo>
                    <a:pt x="1209" y="826"/>
                  </a:lnTo>
                  <a:lnTo>
                    <a:pt x="1209" y="85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870120" y="156672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advantages of using defined estimating methods are that you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ave known practices that you can improv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ave a framework for gathering estimating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an consistently use historical data to produce balanced estimat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871200" y="9032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ize Estimating Principles -3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15:45:23Z</dcterms:created>
  <dc:creator>Stacy Mitchell</dc:creator>
  <dc:description/>
  <dc:language>en-US</dc:language>
  <cp:lastModifiedBy>Julia Mullaney</cp:lastModifiedBy>
  <cp:lastPrinted>2000-12-21T16:04:54Z</cp:lastPrinted>
  <dcterms:modified xsi:type="dcterms:W3CDTF">2006-10-18T17:30:43Z</dcterms:modified>
  <cp:revision>152</cp:revision>
  <dc:subject/>
  <dc:title>No Slide Title</dc:title>
</cp:coreProperties>
</file>