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720" y="6566040"/>
            <a:ext cx="2435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22720" y="6567480"/>
            <a:ext cx="986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anuary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486400" y="6564240"/>
            <a:ext cx="3657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 - Estimating with PROBE II - </a:t>
            </a:r>
            <a:fld id="{4FADF022-1D5C-41F2-A90E-07B168B0CEA3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9480" y="6567480"/>
            <a:ext cx="986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anuary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78560" y="6564240"/>
            <a:ext cx="35654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 - Estimating with PROBE II - </a:t>
            </a:r>
            <a:fld id="{AE20BBC3-50D7-47F0-81D1-A4C94E8DDB94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28520"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465120" algn="ctr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3701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4" marL="18255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5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6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41480" y="1508040"/>
            <a:ext cx="634212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Personal Software Process 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for Engineers: Part I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Estimating with PROBE II</a:t>
            </a:r>
            <a:endParaRPr b="0" lang="en-US" sz="45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13160" y="154620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2108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71560" y="863280"/>
            <a:ext cx="79106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rganizing Proxy Data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94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produce the size ranges, sort the data as follow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sorted LOC per item data: 9.333, 10.5, 12, 13, 25.4, 32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rrange these data as follow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ick the smallest item as very small: VS = 9.333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lect the largest item as very large: VL = 32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ick the middle item as medium: M = 12 or 13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or the large and small ranges, pick the midpoints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etween M and VS and M and VL: 10.9, and 22.25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ile these may be useful ranges, they are probably not stable. 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at is, additional data points will likely result in substantial size-range adjustmen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71560" y="863280"/>
            <a:ext cx="79106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uitive Size Range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94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judging size, our intuition is generally based on a normal distribu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at is, we think of something as of average size if most such items are about that same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consider something to be very large if it is larger than almost all items in its categor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items are distributed this way, it is called a normal distribu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normally distributed data, the ranges should remain reasonably stable with the addition of new data poi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70120" y="850680"/>
            <a:ext cx="7997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uitive Size Ranges -2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2687"/>
          <a:stretch/>
        </p:blipFill>
        <p:spPr>
          <a:xfrm>
            <a:off x="1046160" y="1579680"/>
            <a:ext cx="6973920" cy="40352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64480" y="5602320"/>
            <a:ext cx="2320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 normal distribution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71560" y="863280"/>
            <a:ext cx="79106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uitive Size Ranges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94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a large volume of data, you could calculate the mean and standard deviation of that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size ran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dium would be the mean valu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rge would be mean plus one standard devi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mall would be mean minus one standard devi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ery large would be mean plus two standard devi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ery small would be mean minus two standard devi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method would provide suitably intuitive size ranges if the data were normally distribu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71560" y="863280"/>
            <a:ext cx="79106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Distribution of Size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4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am size data are not normally distribu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y small valu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few large valu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 negative valu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size data, the mean minus one or two standard deviations often gives negative size val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mmon strategy for dealing with such distributions is to treat it as a log-normal distribu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934920" y="2068560"/>
          <a:ext cx="7351920" cy="37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2068560"/>
                    <a:ext cx="7351920" cy="37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90280" y="804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 Log-Normal Distribu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71560" y="863280"/>
            <a:ext cx="79106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Log-Normal Distribution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94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normalize size data, do the following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ke the natural logarithm of the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the mean and standard deviation of the log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lculate the average, large, very large, small, and very small values for the log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ke the inverse log of the ranges to obtain the range size val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procedure will generally produce useful size rang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90280" y="917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rganizing Proxy Data -4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27000" y="1671480"/>
            <a:ext cx="7431120" cy="45928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 mathematically precise way to determine the proxy size ranges is described in the text (pages 78-79)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is simple way to determine these size ranges will work when you have lots of data.  Otherwise, it can cause underestimat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mparative estimating rang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25640" y="4118040"/>
          <a:ext cx="7520040" cy="119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5640" y="4118040"/>
                    <a:ext cx="7520040" cy="11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74440" y="860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with Limited Data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328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en after using PSP for many projects, you will have to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estimates with limited data when you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5440" indent="-196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in a new enviro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5440" indent="-196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new tools or langu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5440" indent="-196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nge your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5440" indent="-196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unfamiliar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ce estimates made with data are more accurate tha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uesses, use data whenever you c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data carefully since improper use can lead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rious erro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with Limited Data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17720" y="1709280"/>
            <a:ext cx="7370640" cy="770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pending on the quality of your data, select one of the four PROBE estimating method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84400" y="2556000"/>
          <a:ext cx="7246800" cy="1863720"/>
        </p:xfrm>
        <a:graphic>
          <a:graphicData uri="http://schemas.openxmlformats.org/drawingml/2006/table">
            <a:tbl>
              <a:tblPr/>
              <a:tblGrid>
                <a:gridCol w="1299960"/>
                <a:gridCol w="5946840"/>
              </a:tblGrid>
              <a:tr h="37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ethod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regression with </a:t>
                      </a:r>
                      <a:r>
                        <a:rPr b="1" lang="en-US" sz="18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estimated</a:t>
                      </a: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 proxy size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regression with </a:t>
                      </a:r>
                      <a:r>
                        <a:rPr b="1" lang="en-US" sz="18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plan</a:t>
                      </a: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 added and modified size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2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he averaging method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ngineering judgment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1133640" y="4654440"/>
            <a:ext cx="732780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use regression method A or B, you need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 reasonable amount of historical data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ata that correlate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asonable </a:t>
            </a:r>
            <a:r>
              <a:rPr b="0" i="1" lang="el-GR" sz="2000" spc="-1" strike="noStrike">
                <a:solidFill>
                  <a:srgbClr val="39536b"/>
                </a:solidFill>
                <a:latin typeface="Arial"/>
                <a:ea typeface="Arial"/>
              </a:rPr>
              <a:t>β</a:t>
            </a:r>
            <a:r>
              <a:rPr b="0" i="1" lang="en-US" sz="2000" spc="-1" strike="noStrike" baseline="-25000">
                <a:solidFill>
                  <a:srgbClr val="39536b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 baseline="-25000">
                <a:solidFill>
                  <a:srgbClr val="39536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nd </a:t>
            </a:r>
            <a:r>
              <a:rPr b="0" i="1" lang="el-GR" sz="2000" spc="-1" strike="noStrike">
                <a:solidFill>
                  <a:srgbClr val="39536b"/>
                </a:solidFill>
                <a:latin typeface="Arial"/>
              </a:rPr>
              <a:t>β</a:t>
            </a:r>
            <a:r>
              <a:rPr b="0" i="1" lang="en-US" sz="2000" spc="-1" strike="noStrike" baseline="-25000">
                <a:solidFill>
                  <a:srgbClr val="39536b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parameter values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74440" y="860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Topic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3280" y="1539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ediction interv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ganizing proxy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with limited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accurac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consider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61840" y="738000"/>
            <a:ext cx="777888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2600"/>
            </a:br>
            <a:r>
              <a:rPr b="1" lang="en-US" sz="2600" spc="-1" strike="noStrike">
                <a:solidFill>
                  <a:srgbClr val="9c2108"/>
                </a:solidFill>
                <a:latin typeface="Arial"/>
              </a:rPr>
              <a:t>Method A (Regression): Estimated Proxy Size</a:t>
            </a:r>
            <a:endParaRPr b="1" lang="en-US" sz="2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98560" y="1557000"/>
            <a:ext cx="8091360" cy="4305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thod A uses the relationship between estimated proxy size (E) and actu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ed and modified siz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ment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riteria for using this method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ree or more data points that correlate (R</a:t>
            </a:r>
            <a:r>
              <a:rPr b="0" lang="en-US" sz="2200" spc="-1" strike="noStrike" baseline="30000">
                <a:solidFill>
                  <a:srgbClr val="39536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&gt; 0.5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asonable regression parameters (table 6.6 on pg. 96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ion of at least three exercises with PSP1 or high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76240" y="768240"/>
            <a:ext cx="794088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9c2108"/>
                </a:solidFill>
                <a:latin typeface="Arial"/>
              </a:rPr>
              <a:t>Method B (Regression):  Plan Added and Modified Size</a:t>
            </a:r>
            <a:endParaRPr b="1" lang="en-US" sz="2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79120" y="1577520"/>
            <a:ext cx="8056440" cy="4318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thod B uses the relationship between plan added and modified size an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tual added and modified siz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tual development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riteria for using this method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ree or more data points that correlate (R</a:t>
            </a:r>
            <a:r>
              <a:rPr b="0" lang="en-US" sz="2200" spc="-1" strike="noStrike" baseline="30000">
                <a:solidFill>
                  <a:srgbClr val="39536b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&gt;0.5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asonable regression parameters (table 6.6 on pg. 96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ion of at least three exercises with PSP0.1 or high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6184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thod C: Averag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5960" y="1565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thod C uses a ratio to adjust size or time based on historical averag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veraging method is easy to use and requires only one data poi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verages assume that there is no fixed overhea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veraging method is described in the PROBE script in table 6.6 on page 96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75880" y="826920"/>
            <a:ext cx="789804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thod D: Engineering Judg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80560" y="157464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method D when you don’t have historical data.  Use judgment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the added and modified size from estimated part siz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development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method D when you cannot use methods A, B, or 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6976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Accurac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80560" y="158400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ning is a skill that must be develop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helps to build planning skill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en simple plans are subject to err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foreseen ev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expected complic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tter design idea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ust plain mistak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est strategy is to plan in detai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the recognized ta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estimates based on similar experien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judgments on the re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76240" y="822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bining Estimat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2880" y="162720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combine multiple estimates made by a single develop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 the estimates for the separate par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one linear regression calcul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lculate one set of prediction interv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ultiple developers can combine independently-made estimates b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ing separate linear regression proje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ing the projected sizes and tim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ing the squares of the individual ranges and taking the square root to get the prediction interval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87040" y="82692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Error: Examp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3656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estimating in parts, the total error will be less than the sum of the part erro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rrors tend to balance ou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assumes no common bia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a 1000-hour job with estimating accuracy of ± 50%, the estimate range is from 500 to 1500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estimate is independently made in 25 parts, each with 50% error, th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 would be 1000 hours, as befo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range would be from 900 to 1100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90280" y="831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bining Individual Erro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8560" y="16412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combine independently-made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 the estimated val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bine the variances (squares) of the erro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25 estimates for a 1000-hour jo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estimate averages 40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tandard deviation is 50%, or 20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variance for each estimate is 400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variances add up to 10,000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mbined standard deviation is the square root of the sum of the variances, or 100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stimate range is 900 to 1100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84160" y="834840"/>
            <a:ext cx="806472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ass Exercis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07560" y="16635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with three estim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= 45 hours, + or - 1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 = 18 hours, + or - 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 = 85 hours, + or - 2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the combined estimat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74440" y="834840"/>
            <a:ext cx="80643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ass Exercis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07560" y="16729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with three estim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= 45 hours, + or - 1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 = 18 hours, + or - 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 = 85 hours, + or - 2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the combined estimat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 = 45 + 18 + 85 = 148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the combined estimate rang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4440" y="888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rediction Interva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5480" y="1593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ediction interval provides a likely range around the estim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70% prediction interval gives the range within which the actual size will likely fall 70% of the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ediction interval is not a forecast, only an expect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applies only if the estimate behaves like the historical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calculated from the same data used to calculate the regression paramet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834840"/>
            <a:ext cx="806472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ass Exercise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07560" y="16729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with three estim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= 45 hours, + or - 1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 = 18 hours, + or - 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 = 85 hours, + or - 2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the combined estimat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 = 45 + 18 + 85 = 148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the combined estimate rang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ariance = 100 + 25 + 625 = 75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nge = square root of variance = 27.4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the combined UPI and LPI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84160" y="834840"/>
            <a:ext cx="806472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ass Exercise -4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98560" y="169200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with three estim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= 45 hours, + or - 1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 = 18 hours, + or - 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 = 85 hours, + or - 25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the combined estimat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 = 45 + 18 + 85 = 148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the combined estimate rang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ariance = 100 + 25 + 625 = 750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nge = square root of variance = 27.4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the combined UPI and LPI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I = 148 + 27.4 = 175.4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PI = 148 – 27.4 = 120.6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79120" y="817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ing Multiple Proxie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040" y="16365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size/hour data for several prox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each as befo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bine the total estimates and prediction intervals as just describ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multiple regression if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is a correlation between development time and each prox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xies do not have separate size/hour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ultiple regression is covered in exercise hints for the final PSP exerci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7768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Considera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2880" y="1595160"/>
            <a:ext cx="745956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ile the PROBE method can provide accurate estimates, improper use of data can lead to serious error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ne extreme point can give a high correlation even when the remaining data are poorly correlat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imilarly, extreme points can lead to erroneous </a:t>
            </a:r>
            <a:r>
              <a:rPr b="0" i="1" lang="el-GR" sz="2000" spc="-1" strike="noStrike">
                <a:solidFill>
                  <a:srgbClr val="39536b"/>
                </a:solidFill>
                <a:latin typeface="Arial"/>
                <a:ea typeface="Arial"/>
              </a:rPr>
              <a:t>β</a:t>
            </a:r>
            <a:r>
              <a:rPr b="0" i="1" lang="en-US" sz="2000" spc="-1" strike="noStrike" baseline="-25000">
                <a:solidFill>
                  <a:srgbClr val="39536b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nd </a:t>
            </a:r>
            <a:r>
              <a:rPr b="0" i="1" lang="el-GR" sz="2000" spc="-1" strike="noStrike">
                <a:solidFill>
                  <a:srgbClr val="39536b"/>
                </a:solidFill>
                <a:latin typeface="Arial"/>
                <a:ea typeface="Arial"/>
              </a:rPr>
              <a:t>β</a:t>
            </a:r>
            <a:r>
              <a:rPr b="0" i="1" lang="en-US" sz="2000" spc="-1" strike="noStrike" baseline="-25000">
                <a:solidFill>
                  <a:srgbClr val="39536b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values, even with a high correla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6328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rrelation with Grouped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79360" y="1562040"/>
            <a:ext cx="7140600" cy="4959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8760" y="3959280"/>
            <a:ext cx="87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 = 0.26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6328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400" spc="-1" strike="noStrike">
                <a:solidFill>
                  <a:srgbClr val="9c2108"/>
                </a:solidFill>
                <a:latin typeface="Arial"/>
              </a:rPr>
              <a:t>Correlation with an Extreme Point</a:t>
            </a:r>
            <a:endParaRPr b="1" lang="en-US" sz="34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85920" y="1665360"/>
            <a:ext cx="7024680" cy="48816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49760" y="5502240"/>
            <a:ext cx="870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 = 0.91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6328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nclusions on Misleading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02880" y="1595160"/>
            <a:ext cx="740268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ith only one point moved to an extreme value, the correlation for the same data increased from 0.26 to 0.91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imilarly, the </a:t>
            </a:r>
            <a:r>
              <a:rPr b="0" i="1" lang="el-GR" sz="2000" spc="-1" strike="noStrike">
                <a:solidFill>
                  <a:srgbClr val="39536b"/>
                </a:solidFill>
                <a:latin typeface="Arial"/>
                <a:ea typeface="Arial"/>
              </a:rPr>
              <a:t>β</a:t>
            </a:r>
            <a:r>
              <a:rPr b="0" i="1" lang="en-US" sz="2000" spc="-1" strike="noStrike" baseline="-25000">
                <a:solidFill>
                  <a:srgbClr val="39536b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nd </a:t>
            </a:r>
            <a:r>
              <a:rPr b="0" i="1" lang="el-GR" sz="2000" spc="-1" strike="noStrike">
                <a:solidFill>
                  <a:srgbClr val="39536b"/>
                </a:solidFill>
                <a:latin typeface="Arial"/>
                <a:ea typeface="Arial"/>
              </a:rPr>
              <a:t>β</a:t>
            </a:r>
            <a:r>
              <a:rPr b="0" i="1" lang="en-US" sz="2000" spc="-1" strike="noStrike" baseline="-25000">
                <a:solidFill>
                  <a:srgbClr val="39536b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values changed fro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8.23 to -17,76 for </a:t>
            </a:r>
            <a:r>
              <a:rPr b="0" i="1" lang="el-GR" sz="2000" spc="-1" strike="noStrike">
                <a:solidFill>
                  <a:srgbClr val="39536b"/>
                </a:solidFill>
                <a:latin typeface="Arial"/>
                <a:ea typeface="Arial"/>
              </a:rPr>
              <a:t>β</a:t>
            </a:r>
            <a:r>
              <a:rPr b="0" i="1" lang="en-US" sz="2000" spc="-1" strike="noStrike" baseline="-25000">
                <a:solidFill>
                  <a:srgbClr val="39536b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1.02 to 5.08 for </a:t>
            </a:r>
            <a:r>
              <a:rPr b="0" i="1" lang="el-GR" sz="2000" spc="-1" strike="noStrike">
                <a:solidFill>
                  <a:srgbClr val="39536b"/>
                </a:solidFill>
                <a:latin typeface="Arial"/>
                <a:ea typeface="Arial"/>
              </a:rPr>
              <a:t>β</a:t>
            </a:r>
            <a:r>
              <a:rPr b="0" i="1" lang="en-US" sz="2000" spc="-1" strike="noStrike" baseline="-25000">
                <a:solidFill>
                  <a:srgbClr val="39536b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ith an average productivity of 3.02 and 3.31 hours per page, both of these </a:t>
            </a:r>
            <a:r>
              <a:rPr b="0" i="1" lang="el-GR" sz="2000" spc="-1" strike="noStrike">
                <a:solidFill>
                  <a:srgbClr val="39536b"/>
                </a:solidFill>
                <a:latin typeface="Arial"/>
                <a:ea typeface="Arial"/>
              </a:rPr>
              <a:t>β</a:t>
            </a:r>
            <a:r>
              <a:rPr b="0" i="1" lang="en-US" sz="2000" spc="-1" strike="noStrike" baseline="-25000">
                <a:solidFill>
                  <a:srgbClr val="39536b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values are misleadi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ith one extreme point, you probably should not use regress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57160" y="82692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72640" y="156996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BE method provides a structured way to make size and development time estim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7760" indent="-231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uses your personal development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7760" indent="-2318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provides a statistically sound range within which actual program size and development time are likely to fal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776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a statistically sound estimating method like PROBE, you can calculate the likely estimating err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776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 Prediction Interval Examp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71480" y="1803240"/>
            <a:ext cx="8151840" cy="4815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997080" y="1527120"/>
            <a:ext cx="186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27 C++ programs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871720" y="3286080"/>
            <a:ext cx="4557960" cy="1757520"/>
          </a:xfrm>
          <a:prstGeom prst="line">
            <a:avLst/>
          </a:prstGeom>
          <a:ln w="255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7768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The Range Calculation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03240" y="1595160"/>
            <a:ext cx="7346880" cy="1630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9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range defines the likely error around the projection within which the actual value is likely to fal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idely scattered data will have a wider range than closely bunched data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08080" y="3271680"/>
          <a:ext cx="10020240" cy="148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3271680"/>
                    <a:ext cx="100202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055520" y="4842000"/>
            <a:ext cx="7174080" cy="17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variables are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n  - number of data points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39536b"/>
                </a:solidFill>
                <a:latin typeface="Arial"/>
                <a:ea typeface="Arial"/>
              </a:rPr>
              <a:t>σ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  - the standard deviation around the regression line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(p, df) - the t distribution value for probability p (70%) and df (n-2) degrees of freedom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x - the data: k - the estimate, i - a data point, and avg - average of the data 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The Standard Deviation Calculation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17720" y="1709280"/>
            <a:ext cx="7346880" cy="1630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 fontScale="99000"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standard deviation measures the variability of the data around the regression lin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idely scattered data will have a higher standard deviation  than closely bunched data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70000" y="3490920"/>
          <a:ext cx="10590120" cy="100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00" y="3490920"/>
                    <a:ext cx="105901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130400" y="4749840"/>
            <a:ext cx="706896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standard deviation </a:t>
            </a:r>
            <a:r>
              <a:rPr b="0" lang="el-GR" sz="2000" spc="-1" strike="noStrike">
                <a:solidFill>
                  <a:srgbClr val="39536b"/>
                </a:solidFill>
                <a:latin typeface="Arial"/>
                <a:ea typeface="Arial"/>
              </a:rPr>
              <a:t>σ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is the square root of the variance.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63280" y="87444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alculate the Prediction Interva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3880" y="1550880"/>
            <a:ext cx="78278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lculate the prediction range for size and time for the example in lecture 3 (slides 42 and 43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lculate the upper (UPI) and lower (LPI) prediction intervals  for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I = P + Range = 538 + 235 = 773 LO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PI = P - Range (or 0) = 538 - 235 = 303 LO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lculate the UPI and LPI prediction intervals  for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I = Time + Range = 1186 +431 = 1617 mi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PI = Time - Range (or 0) = 1186 - 431 = 755 mi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0920" y="81900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rganizing Proxy Data -1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0560" y="1630080"/>
            <a:ext cx="75596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make an estimate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eak the planned product into par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late these planned parts to parts that you have already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size of the previously-built parts to estimate th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s of the new par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do this, you need size ranges for the types of parts that you typically develo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each product type, you also need size ranges to help you to judge the sizes of the new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71560" y="863280"/>
            <a:ext cx="791064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rganizing Proxy Data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94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determine the size ranges, start with the part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ume that you have the following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A, three items (or methods), 39 total LO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B, five items, 127 total LO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C, two items, 64 total LO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, three items, 28 total LO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E, one item, 12 LO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F, two items, 21 total LO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OC per item is 13, 25.4, 32, 9.333, 12, 10.5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 is define size ranges that approximate our intuitive feel for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dc:language>en-US</dc:language>
  <cp:lastModifiedBy>Julia Mullaney</cp:lastModifiedBy>
  <cp:lastPrinted>2000-12-21T16:04:54Z</cp:lastPrinted>
  <dcterms:modified xsi:type="dcterms:W3CDTF">2006-02-23T19:18:00Z</dcterms:modified>
  <cp:revision>159</cp:revision>
  <dc:subject/>
  <dc:title>No Slide Title</dc:title>
</cp:coreProperties>
</file>