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C3A3FD9-C056-465A-8B63-8D5455C7811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818372C0-EB6E-4762-BDE7-AE44A1CD22C0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DF0D070-56E4-4154-88B0-7D60E7E7CB4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960560" y="615960"/>
            <a:ext cx="2724120" cy="2043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564840" y="2779560"/>
            <a:ext cx="5737320" cy="5800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907A12C-7EB6-4DFB-BB79-0D2963A63C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7600" cy="34196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410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the perspective of the individual achieving a certification, there are four interrelated reasons why individuals want to attain a certification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knowledge or skil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presti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marketabilit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compens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viously, by virtue of going through the educational process and completing the knowledge and/or skill demonstration required by a certification, the individual will have gained in knowledge and/or skill. From an interpersonal standpoint, this designation should translate into higher levels of prestige within the individual’s profession. But, perhaps more importantly from the individual’s perspective, the attainment of a certification and the accompanying acknowledgement of knowledge and/or skills acquired should translate into increased ability to move within the profession either laterally within or between organizations or vertically to higher-level position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ally, with the attainment of a certification and the acknowledgement of knowledge and skills acquired a justification for increases in compensation exists. And, in fact, most organization, recognize that the attainment of the better known and more applicable certifications do translate into increases in compensat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748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1804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15040" y="656748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I - Course Overview - </a:t>
            </a:r>
            <a:fld id="{5AC7B9AC-2AF4-4D7F-B242-DFBDA85F0F8A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04760" y="140508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0332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8040" y="6567480"/>
            <a:ext cx="9874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October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15040" y="656748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I - Course Overview - </a:t>
            </a:r>
            <a:fld id="{586D179C-135B-4C3B-93B8-DABE12F3B1B8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L6%20Software%20quality.ppt" TargetMode="External"/><Relationship Id="rId2" Type="http://schemas.openxmlformats.org/officeDocument/2006/relationships/hyperlink" Target="file:///Using%20PSP2.ppt" TargetMode="External"/><Relationship Id="rId3" Type="http://schemas.openxmlformats.org/officeDocument/2006/relationships/hyperlink" Target="file:///ASGKIT%20PROG5.doc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Week2Day7/Using%20PSP2.1.ppt" TargetMode="External"/><Relationship Id="rId2" Type="http://schemas.openxmlformats.org/officeDocument/2006/relationships/hyperlink" Target="file:///../Week2Day7/ASGKIT%20PROG6.doc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Week2Day8/ASGKIT%20PROG7.doc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90720" y="1965240"/>
            <a:ext cx="634212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Personal Software Process</a:t>
            </a:r>
            <a:r>
              <a:rPr b="1" lang="en-US" sz="3100" spc="-1" strike="noStrike" baseline="30000">
                <a:solidFill>
                  <a:srgbClr val="39536b"/>
                </a:solidFill>
                <a:latin typeface="Arial Narrow"/>
              </a:rPr>
              <a:t>SM</a:t>
            </a: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 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for Engineers: Part II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Course Overview</a:t>
            </a:r>
            <a:endParaRPr b="0" lang="en-US" sz="45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pect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he PSP b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ing the assigned read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tending the class lectures, tutorials, and worksho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ing the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 plan to spend two weeks of classroom time and a few additional days outside of class to complete the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student is expected to make this commit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ound Rules for Cla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here on time; we will start on time each da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tend all sessions; discuss any exceptions with instructo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 this room a “quiet zone” during lab periods; move conversations outsi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ust use the PSP techniques and methods on the assignments. Your goal is to learn the process, not just to write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urn in assignments that are correct, complete, and in the proper ord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Week 2 Day 6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017720" y="1709640"/>
          <a:ext cx="7413480" cy="399600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381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784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urse overview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9c2108"/>
                          </a:solidFill>
                          <a:uFillTx/>
                          <a:latin typeface="Arial"/>
                          <a:hlinkClick r:id="rId1"/>
                        </a:rPr>
                        <a:t>L6. Software quality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843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9c2108"/>
                          </a:solidFill>
                          <a:uFillTx/>
                          <a:latin typeface="Arial"/>
                          <a:hlinkClick r:id="rId2"/>
                        </a:rPr>
                        <a:t>Using PSP2 tutorial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9c2108"/>
                          </a:solidFill>
                          <a:uFillTx/>
                          <a:latin typeface="Arial"/>
                          <a:hlinkClick r:id="rId3"/>
                        </a:rPr>
                        <a:t>Program 5 assign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Week 2 Day 7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17720" y="1709640"/>
          <a:ext cx="7413480" cy="366732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60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7. Software Design I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31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9c2108"/>
                          </a:solidFill>
                          <a:uFillTx/>
                          <a:latin typeface="Arial"/>
                          <a:hlinkClick r:id="rId1"/>
                        </a:rPr>
                        <a:t>Using PSP2.1 tutorial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9c2108"/>
                          </a:solidFill>
                          <a:uFillTx/>
                          <a:latin typeface="Arial"/>
                          <a:hlinkClick r:id="rId2"/>
                        </a:rPr>
                        <a:t>Program 6 assign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14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Week 2 Day 8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17720" y="1709640"/>
          <a:ext cx="7413480" cy="349884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8. Software design II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tate machine verification exercis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9c2108"/>
                          </a:solidFill>
                          <a:uFillTx/>
                          <a:latin typeface="Arial"/>
                          <a:hlinkClick r:id="rId1"/>
                        </a:rPr>
                        <a:t>Program 7 assign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Week 2 Day 9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17720" y="1709640"/>
          <a:ext cx="7413480" cy="364500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615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9. Design verification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sign verification exercis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ogram 8 assign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80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Week 2 Day 10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017720" y="1709640"/>
          <a:ext cx="7413480" cy="401976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10. Using the PSP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4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1:1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Final report assign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urse feedback and evaluation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djourn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ost-Course Homewor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unfinished program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nal re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ost-Course Schedu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017720" y="1709640"/>
          <a:ext cx="7413480" cy="98280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532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Assign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Estimated Effor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Du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Final repor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-15 hour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rodu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 introdu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logistics and building fac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introdu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 and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expec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ming language you will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Cours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s a software process course.  The objectives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e you to a process-based approach for developing softw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 you how to measure and analyze your personal software process (PSP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 you how to use process data to improve your personal performanc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 you how to apply these methods to other structured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1136520"/>
            <a:ext cx="4103640" cy="5294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1600" y="1747800"/>
            <a:ext cx="47926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SEI-certified professionals will realize an increase i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knowledge and skill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restig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marketability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rofessional recognitio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compensatio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006200" y="9666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I-Certified PSP Develop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52840" y="4273200"/>
            <a:ext cx="5216400" cy="1662120"/>
          </a:xfrm>
          <a:prstGeom prst="rect">
            <a:avLst/>
          </a:prstGeom>
          <a:solidFill>
            <a:srgbClr val="dfdbc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ightly or wrongly, companies place a value on certification, and it will up your salary.”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39536b"/>
                </a:solidFill>
                <a:latin typeface="Arial"/>
              </a:rPr>
              <a:t>Information Week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, April 2004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neral Course Inform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requisi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now a programming langua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the pre-read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ful backgrou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miliarity with basic statistic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bility to read simple formal no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c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vailable development environmen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crosoft Word, Excel and Access capabi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Top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PSP Part I: Plan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 to PSP</a:t>
            </a:r>
            <a:br>
              <a:rPr sz="2200"/>
            </a:b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d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with</a:t>
            </a:r>
            <a:br>
              <a:rPr sz="2200"/>
            </a:b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BE 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with</a:t>
            </a:r>
            <a:br>
              <a:rPr sz="2200"/>
            </a:b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BE I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PSP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0240" y="1709640"/>
            <a:ext cx="363060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PSP Part II: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e-machine design</a:t>
            </a:r>
            <a:br>
              <a:rPr sz="2200"/>
            </a:b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d ver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ver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TSP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tructu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-course reading assig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ypical course da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cture:  review key topics from textbo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tuto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 or report assig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b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st-course home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tudent Evalu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actors that affect your evaluation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quality of the data that you submi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mpleteness and consistency of your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herence to the proper order and format of assignment submiss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analysis of your PSP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tructor Availabi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s will be avail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class hours each da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class by phone or e-mai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dc:language>en-US</dc:language>
  <cp:lastModifiedBy>Julia Mullaney</cp:lastModifiedBy>
  <cp:lastPrinted>2000-12-21T16:04:54Z</cp:lastPrinted>
  <dcterms:modified xsi:type="dcterms:W3CDTF">2006-11-08T13:03:00Z</dcterms:modified>
  <cp:revision>138</cp:revision>
  <dc:subject/>
  <dc:title>No Slide Title</dc:title>
</cp:coreProperties>
</file>