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B22CBEE-DA6D-4258-B18F-5188B036A2C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93960" y="8682120"/>
            <a:ext cx="12704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120" rIns="87120" tIns="43560" bIns="435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C0F28F85-E3CB-408C-A13A-828242B7518C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58480" y="692280"/>
            <a:ext cx="453852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12960" y="4330800"/>
            <a:ext cx="5032080" cy="41004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04F65A4-8A6E-4223-A5A9-C94BDB500F8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960560" y="615960"/>
            <a:ext cx="2722680" cy="20415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564840" y="2781000"/>
            <a:ext cx="5737320" cy="5798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400" y="4328640"/>
            <a:ext cx="5029200" cy="41022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structor describes exerci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udents describe, in writing, their view of software development their organiz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ral volunteers are asked to read their view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ass engages in short discus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ne instructor facilitates the discuss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ther instructor observes and records the class attitude, experience, and plans concerning software development at the organiz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51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ass written comments are collected and saved for conclusion lectu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ldImg"/>
          </p:nvPr>
        </p:nvSpPr>
        <p:spPr>
          <a:xfrm>
            <a:off x="1158840" y="689040"/>
            <a:ext cx="4541760" cy="3406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8844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F4500E2-3BC4-4D47-B1FF-D2DD6E02A6B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1800" y="86594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18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884400" y="-5040"/>
            <a:ext cx="2974680" cy="46044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7600" cy="3419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30440"/>
            <a:ext cx="5486400" cy="41036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rom the perspective of the individual achieving a certification, there are four interrelated reasons why individuals want to attain a certification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knowledge or skil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presti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marketabilit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crease in compens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bviously, by virtue of going through the educational process and completing the knowledge and/or skill demonstration required by a certification, the individual will have gained in knowledge and/or skill. From an interpersonal standpoint, this designation should translate into higher levels of prestige within the individual’s profession. But, perhaps more importantly from the individual’s perspective, the attainment of a certification and the accompanying acknowledgement of knowledge and/or skills acquired should translate into increased ability to move within the profession either laterally within or between organizations or vertically to higher-level positions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ally, with the attainment of a certification and the acknowledgement of knowledge and skills acquired a justification for increases in compensation exists. And, in fact, most organization, recognize that the attainment of the better known and more applicable certifications do translate into increases in compensation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596960" indent="-22680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2054160" indent="-22860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720" y="6566040"/>
            <a:ext cx="2435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122720" y="6567480"/>
            <a:ext cx="986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anuary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 - Course Overview - </a:t>
            </a:r>
            <a:fld id="{C6FCDD84-75E1-41DC-ADD1-F6FCD1393EED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© 2006 by Carnegie Mellon University</a:t>
            </a:r>
            <a:endParaRPr b="0" lang="en-US" sz="16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21280" y="6567480"/>
            <a:ext cx="9860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January 2006</a:t>
            </a:r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PSP I - Course Overview - </a:t>
            </a:r>
            <a:fld id="{C865ECF9-36C6-4BCB-AC7E-3E616C3AD4D5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28520" indent="0"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465120" algn="ctr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13701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4" marL="1825560" algn="ctr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5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  <a:p>
            <a:pPr lvl="6" marL="1825560">
              <a:spcBef>
                <a:spcPts val="550"/>
              </a:spcBef>
              <a:buClr>
                <a:srgbClr val="3953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Times New Roman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Intro%20EX.doc" TargetMode="External"/><Relationship Id="rId2" Type="http://schemas.openxmlformats.org/officeDocument/2006/relationships/hyperlink" Target="file:///L1%20Introduction%20to%20PSP.ppt" TargetMode="External"/><Relationship Id="rId3" Type="http://schemas.openxmlformats.org/officeDocument/2006/relationships/hyperlink" Target="file:///Using%20PSP0.ppt" TargetMode="External"/><Relationship Id="rId4" Type="http://schemas.openxmlformats.org/officeDocument/2006/relationships/hyperlink" Target="file:///ASGKIT%20PROG1.doc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Week1Day2/ASGKIT%20Counting%20Std.doc" TargetMode="External"/><Relationship Id="rId2" Type="http://schemas.openxmlformats.org/officeDocument/2006/relationships/hyperlink" Target="file:///../Week1Day2/ASGKIT%20Coding%20Std.doc" TargetMode="External"/><Relationship Id="rId3" Type="http://schemas.openxmlformats.org/officeDocument/2006/relationships/hyperlink" Target="file:///../Week1Day2/Using%20PSP0.1.ppt" TargetMode="External"/><Relationship Id="rId4" Type="http://schemas.openxmlformats.org/officeDocument/2006/relationships/hyperlink" Target="file:///../Week1Day2/ASGKIT%20PROG2.doc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Week1Day3/Using%20PSP1.ppt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028880" y="1965240"/>
            <a:ext cx="6341760" cy="21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Personal Software Process 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3100" spc="-1" strike="noStrike">
                <a:solidFill>
                  <a:srgbClr val="39536b"/>
                </a:solidFill>
                <a:latin typeface="Arial Narrow"/>
              </a:rPr>
              <a:t>for Engineers: Part I</a:t>
            </a:r>
            <a:endParaRPr b="0" lang="en-US" sz="31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3200" spc="-1" strike="noStrike">
              <a:solidFill>
                <a:srgbClr val="39536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4500" spc="-1" strike="noStrike">
                <a:solidFill>
                  <a:srgbClr val="39536b"/>
                </a:solidFill>
                <a:latin typeface="Arial Narrow"/>
              </a:rPr>
              <a:t>Course Overview</a:t>
            </a:r>
            <a:endParaRPr b="0" lang="en-US" sz="4500" spc="-1" strike="noStrike">
              <a:solidFill>
                <a:srgbClr val="39536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16040" y="1976400"/>
            <a:ext cx="267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c2108"/>
                </a:solidFill>
                <a:latin typeface="Arial"/>
              </a:rPr>
              <a:t>SM</a:t>
            </a:r>
            <a:br>
              <a:rPr sz="1400"/>
            </a:br>
            <a:endParaRPr b="0" lang="en-US" sz="1400" spc="-1" strike="noStrike">
              <a:solidFill>
                <a:srgbClr val="39536b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80920" y="884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tructor Availabil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72640" y="1550520"/>
            <a:ext cx="7559640" cy="29466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ors will be availab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class hours each da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fter class by phone or e-mai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68320" y="884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pecta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65080" y="1541160"/>
            <a:ext cx="7880400" cy="41878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s learn the PSP b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ing the assigned read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tending the class lectures, tutorials, and worksho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ing the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should plan to spend two weeks of classroom time and a few additional days outside the class to complete the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student is expected to make this commit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80920" y="884160"/>
            <a:ext cx="7421760" cy="63360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round Rules for Cla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23400" y="1525320"/>
            <a:ext cx="7891560" cy="49179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41904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here on time; we will start on time each da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tend all sessions; discuss any exceptions with instructo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eep this room a “quiet zone” during lab periods; move conversations outsid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must use the PSP techniques/methods on the assignments.  Your goal is to learn the process, not just to write progr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419040" indent="-41904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urn in assignments that are correct, complete, and in the proper ord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Agenda - Week 1 Day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17720" y="1709640"/>
          <a:ext cx="7413480" cy="3443400"/>
        </p:xfrm>
        <a:graphic>
          <a:graphicData uri="http://schemas.openxmlformats.org/drawingml/2006/table">
            <a:tbl>
              <a:tblPr/>
              <a:tblGrid>
                <a:gridCol w="1168200"/>
                <a:gridCol w="6245280"/>
              </a:tblGrid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820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urse overview and </a:t>
                      </a:r>
                      <a:r>
                        <a:rPr b="0" lang="en-US" sz="2000" spc="-1" strike="noStrike" u="sng">
                          <a:solidFill>
                            <a:srgbClr val="9c2108"/>
                          </a:solidFill>
                          <a:uFillTx/>
                          <a:latin typeface="Arial"/>
                          <a:hlinkClick r:id="rId1"/>
                        </a:rPr>
                        <a:t>introductory exercis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9c2108"/>
                          </a:solidFill>
                          <a:uFillTx/>
                          <a:latin typeface="Arial"/>
                          <a:hlinkClick r:id="rId2"/>
                        </a:rPr>
                        <a:t>L1. Introduction to the PSP and TSP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312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9c2108"/>
                          </a:solidFill>
                          <a:uFillTx/>
                          <a:latin typeface="Arial"/>
                          <a:hlinkClick r:id="rId3"/>
                        </a:rPr>
                        <a:t>Using PSP0 tutorial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9c2108"/>
                          </a:solidFill>
                          <a:uFillTx/>
                          <a:latin typeface="Arial"/>
                          <a:hlinkClick r:id="rId4"/>
                        </a:rPr>
                        <a:t>Program 1 assignmen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24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Agenda - Week 1 Day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17720" y="1709640"/>
          <a:ext cx="7413480" cy="3875040"/>
        </p:xfrm>
        <a:graphic>
          <a:graphicData uri="http://schemas.openxmlformats.org/drawingml/2006/table">
            <a:tbl>
              <a:tblPr/>
              <a:tblGrid>
                <a:gridCol w="1168200"/>
                <a:gridCol w="6245280"/>
              </a:tblGrid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2. Process measuremen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3296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9c2108"/>
                          </a:solidFill>
                          <a:uFillTx/>
                          <a:latin typeface="Arial"/>
                          <a:hlinkClick r:id="rId1"/>
                        </a:rPr>
                        <a:t>Size counting standard assignmen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9c2108"/>
                          </a:solidFill>
                          <a:uFillTx/>
                          <a:latin typeface="Arial"/>
                          <a:hlinkClick r:id="rId2"/>
                        </a:rPr>
                        <a:t>Coding standard assignmen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9c2108"/>
                          </a:solidFill>
                          <a:uFillTx/>
                          <a:latin typeface="Arial"/>
                          <a:hlinkClick r:id="rId3"/>
                        </a:rPr>
                        <a:t>Using PSP0.1 tutorial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9c2108"/>
                          </a:solidFill>
                          <a:uFillTx/>
                          <a:latin typeface="Arial"/>
                          <a:hlinkClick r:id="rId4"/>
                        </a:rPr>
                        <a:t>Program 2 assignmen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Agenda - Week 1 Day 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017720" y="1709640"/>
          <a:ext cx="7413480" cy="3702240"/>
        </p:xfrm>
        <a:graphic>
          <a:graphicData uri="http://schemas.openxmlformats.org/drawingml/2006/table">
            <a:tbl>
              <a:tblPr/>
              <a:tblGrid>
                <a:gridCol w="1168200"/>
                <a:gridCol w="6245280"/>
              </a:tblGrid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3. Estimating with PROBE I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312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 u="sng">
                          <a:solidFill>
                            <a:srgbClr val="9c2108"/>
                          </a:solidFill>
                          <a:uFillTx/>
                          <a:latin typeface="Arial"/>
                          <a:hlinkClick r:id="rId1"/>
                        </a:rPr>
                        <a:t>Using PSP1 tutorial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rogram 3 assignmen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Agenda - Week 1 Day 4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017720" y="1709640"/>
          <a:ext cx="7413480" cy="3498840"/>
        </p:xfrm>
        <a:graphic>
          <a:graphicData uri="http://schemas.openxmlformats.org/drawingml/2006/table">
            <a:tbl>
              <a:tblPr/>
              <a:tblGrid>
                <a:gridCol w="1168200"/>
                <a:gridCol w="6245280"/>
              </a:tblGrid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4. Estimating with PROBE II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312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Using PSP1.1 tutorial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rogram 4 assignmen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Agenda - Week 1 Day 5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17720" y="1709640"/>
          <a:ext cx="7413480" cy="4324320"/>
        </p:xfrm>
        <a:graphic>
          <a:graphicData uri="http://schemas.openxmlformats.org/drawingml/2006/table">
            <a:tbl>
              <a:tblPr/>
              <a:tblGrid>
                <a:gridCol w="1168200"/>
                <a:gridCol w="6245280"/>
              </a:tblGrid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ntinental breakfas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15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lass data feedback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: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5. Using PSP data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Break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2312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0: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ab session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nterim report assignmen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• </a:t>
                      </a: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esign and code review checklists assignmen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2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unch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ab session (continued)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:0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urse feedback and evaluation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3280">
                <a:tc>
                  <a:txBody>
                    <a:bodyPr lIns="108000" rIns="108000" tIns="0" bIns="108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:30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0" rIns="108000" tIns="0" bIns="108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djourn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 marL="108000" marR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ost-Course Homework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e unfinished program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im re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and code review checklists assig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-reading for week 2: Chapters 8 to 14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ost-Course Schedu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017720" y="1709640"/>
          <a:ext cx="7413480" cy="2649600"/>
        </p:xfrm>
        <a:graphic>
          <a:graphicData uri="http://schemas.openxmlformats.org/drawingml/2006/table">
            <a:tbl>
              <a:tblPr/>
              <a:tblGrid>
                <a:gridCol w="2471760"/>
                <a:gridCol w="2469960"/>
                <a:gridCol w="2471760"/>
              </a:tblGrid>
              <a:tr h="687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Assignmen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Estimated Effor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39536b"/>
                          </a:solidFill>
                          <a:uFillTx/>
                          <a:latin typeface="Arial"/>
                        </a:rPr>
                        <a:t>Due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nterim repor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-12 hours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hecklist assignment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-3 hours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02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re-reading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for week 2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r>
                        <a:rPr b="0" lang="en-US" sz="2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-10 hours</a:t>
                      </a:r>
                      <a:endParaRPr b="0" lang="en-US" sz="20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11080"/>
                          <a:tab algn="l" pos="1622520"/>
                          <a:tab algn="l" pos="2433600"/>
                          <a:tab algn="l" pos="3244680"/>
                          <a:tab algn="l" pos="4056120"/>
                          <a:tab algn="l" pos="4867200"/>
                          <a:tab algn="l" pos="5678640"/>
                          <a:tab algn="l" pos="6489720"/>
                          <a:tab algn="l" pos="7300800"/>
                          <a:tab algn="l" pos="8112240"/>
                          <a:tab algn="l" pos="8923320"/>
                          <a:tab algn="l" pos="9734400"/>
                          <a:tab algn="l" pos="10545840"/>
                        </a:tabLst>
                      </a:pPr>
                      <a:endParaRPr b="0" lang="en-US" sz="2400" spc="-1" strike="noStrike">
                        <a:solidFill>
                          <a:srgbClr val="39536b"/>
                        </a:solidFill>
                        <a:latin typeface="Times New Roman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80920" y="82044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roduc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85960" y="1550880"/>
            <a:ext cx="8007120" cy="4710240"/>
          </a:xfrm>
          <a:prstGeom prst="rect">
            <a:avLst/>
          </a:prstGeom>
          <a:noFill/>
          <a:ln w="0">
            <a:noFill/>
          </a:ln>
        </p:spPr>
        <p:txBody>
          <a:bodyPr lIns="109080" rIns="109080" tIns="51840" bIns="51840" anchor="t">
            <a:normAutofit/>
          </a:bodyPr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or introdu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logistics and building fac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udent introdu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1960" indent="-1774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ame and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1960" indent="-1774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expec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291960" indent="-177480">
              <a:buClr>
                <a:srgbClr val="39536b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nguage you will 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81000" y="890280"/>
            <a:ext cx="7421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04760" y="168408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“Question/Comment” sheet to describe your view of software development issues and problems in your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fter you finish your responses, we will have a class discussion about software development in your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360320" y="5884920"/>
            <a:ext cx="20966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760" rIns="104760" tIns="52560" bIns="52560" anchor="t">
            <a:spAutoFit/>
          </a:bodyPr>
          <a:p>
            <a:pPr>
              <a:lnSpc>
                <a:spcPct val="90000"/>
              </a:lnSpc>
              <a:spcBef>
                <a:spcPts val="1012"/>
              </a:spcBef>
              <a:buClr>
                <a:srgbClr val="39536b"/>
              </a:buClr>
              <a:buFont typeface="Arial"/>
              <a:buChar char=" "/>
              <a:tabLst>
                <a:tab algn="l" pos="1033560"/>
                <a:tab algn="l" pos="2066760"/>
                <a:tab algn="l" pos="3100320"/>
                <a:tab algn="l" pos="4133880"/>
                <a:tab algn="l" pos="5167440"/>
                <a:tab algn="l" pos="6200640"/>
                <a:tab algn="l" pos="7234200"/>
                <a:tab algn="l" pos="8267760"/>
                <a:tab algn="l" pos="9301320"/>
                <a:tab algn="l" pos="10334520"/>
              </a:tabLst>
            </a:pPr>
            <a:r>
              <a:rPr b="1" lang="en-US" sz="2700" spc="-1" strike="noStrike">
                <a:solidFill>
                  <a:srgbClr val="39536b"/>
                </a:solidFill>
                <a:latin typeface="Arial"/>
              </a:rPr>
              <a:t>10 minutes</a:t>
            </a:r>
            <a:endParaRPr b="0" lang="en-US" sz="2700" spc="-1" strike="noStrike">
              <a:solidFill>
                <a:srgbClr val="39536b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554280" y="5597640"/>
            <a:ext cx="64944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683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 Cours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75800" y="1562040"/>
            <a:ext cx="7851960" cy="42926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marL="1144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is a software process course.  The objectives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720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e you to a process-based approach to developing softw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720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w you how to measure and analyze your personal software process (PSP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720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w you how to use process data to improve your personal performanc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45720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w you how to apply these methods to other structured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136520"/>
            <a:ext cx="4103640" cy="529452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801600" y="1747800"/>
            <a:ext cx="4792680" cy="45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SEI-certified professionals will realize an increase in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knowledge and skills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prestige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marketability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professional recognition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8540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39536b"/>
                </a:solidFill>
                <a:latin typeface="Arial"/>
              </a:rPr>
              <a:t>compensation</a:t>
            </a:r>
            <a:endParaRPr b="0" lang="en-US" sz="2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006200" y="96660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I-Certified PSP Develop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552840" y="4273200"/>
            <a:ext cx="5216400" cy="1662120"/>
          </a:xfrm>
          <a:prstGeom prst="rect">
            <a:avLst/>
          </a:prstGeom>
          <a:solidFill>
            <a:srgbClr val="dfdbcb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Rightly or wrongly, companies place a value on certification, and it will up your salary.”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0">
              <a:buNone/>
              <a:tabLst>
                <a:tab algn="l" pos="0"/>
                <a:tab algn="l" pos="13716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39536b"/>
                </a:solidFill>
                <a:latin typeface="Arial"/>
              </a:rPr>
              <a:t>Information Week</a:t>
            </a: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, April 2004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55360" y="858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eneral Course Inform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5600" y="1577880"/>
            <a:ext cx="7559640" cy="45849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requisi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must know a programming langua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should have completed the pre-read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ful backgroun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amiliarity with basic statistic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bility to read simple formal no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ac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vailable development environment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icrosoft Word, Excel and Access capabi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5360" y="8712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Topic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52120" y="1528920"/>
            <a:ext cx="3630600" cy="41256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PSP Part I: Plan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tion to the PSP and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measur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with</a:t>
            </a:r>
            <a:br>
              <a:rPr sz="2200"/>
            </a:b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BE I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ng with</a:t>
            </a:r>
            <a:br>
              <a:rPr sz="2200"/>
            </a:b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BE II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PSP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3440" y="1539720"/>
            <a:ext cx="3660840" cy="45086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PSP Part II: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te-machine design and verifi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verifi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e 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5360" y="858600"/>
            <a:ext cx="742140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Structu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83800" y="1525320"/>
            <a:ext cx="7559640" cy="4305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-course reading assig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ypical course da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cture:  review key topics from textboo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b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85800" indent="-22860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tutori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85800" indent="-22860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gram or report assig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85800" indent="-22860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b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85800" indent="0">
              <a:buNone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ost-course home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0920" y="871200"/>
            <a:ext cx="7421760" cy="63324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tudent Evalu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78040" y="1619280"/>
            <a:ext cx="7664400" cy="36720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2560" bIns="52560" anchor="t">
            <a:normAutofit/>
          </a:bodyPr>
          <a:p>
            <a:pPr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actors that affect your evaluation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quality of the data that you submi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mpleteness and consistency of your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herence to the proper order and format of assignment submiss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analysis of your P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dc:language>en-US</dc:language>
  <cp:lastModifiedBy>Julia Mullaney</cp:lastModifiedBy>
  <cp:lastPrinted>2000-12-21T16:04:54Z</cp:lastPrinted>
  <dcterms:modified xsi:type="dcterms:W3CDTF">2006-02-28T16:22:48Z</dcterms:modified>
  <cp:revision>133</cp:revision>
  <dc:subject/>
  <dc:title>No Slide Title</dc:title>
</cp:coreProperties>
</file>