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4.png" ContentType="image/png"/>
  <Override PartName="/ppt/media/image9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18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44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-18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3"/>
          </p:nvPr>
        </p:nvSpPr>
        <p:spPr>
          <a:xfrm>
            <a:off x="38844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746D8C0-6A1E-48A1-A79E-D8AC0744D82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93960" y="8682120"/>
            <a:ext cx="12704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BD28F4F8-3479-4A28-B89E-E6EAD683B1DE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Img"/>
          </p:nvPr>
        </p:nvSpPr>
        <p:spPr>
          <a:xfrm>
            <a:off x="1158480" y="692280"/>
            <a:ext cx="4538520" cy="340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60640" y="690480"/>
            <a:ext cx="4538520" cy="34038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29000"/>
            <a:ext cx="5029200" cy="410544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920" bIns="439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mitments are often made when little is know about a projec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If you can’t plan early, plan often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 Humphre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plan is a snapshot of what needs to be don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ased on what you know at the tim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hould be revisited when new information is gain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djustments can be made if early warning is give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intent is not to continuously reset the end dates, but to continuously reexamine the amount of work left to do to reach the end dat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TSP development strategy encourag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remental develop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terative develop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ultiple builds or cyc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orking ahe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8844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624161E-55ED-4A8C-8DD5-1E0E903188E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18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18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844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960560" y="615960"/>
            <a:ext cx="2724120" cy="2043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564840" y="2779560"/>
            <a:ext cx="5737320" cy="5800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8844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712AD5F-39C3-42E2-81E3-E8DABEA3A03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18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18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844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960560" y="615960"/>
            <a:ext cx="2724120" cy="2043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564840" y="2779560"/>
            <a:ext cx="5737320" cy="5800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8844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228C782-69F3-4574-82D2-17CCAC5679A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-18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-18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8844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960560" y="615960"/>
            <a:ext cx="2724120" cy="2043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564840" y="2779560"/>
            <a:ext cx="5737320" cy="5800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720" y="6566040"/>
            <a:ext cx="24350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© 2006 by Carnegie Mellon University</a:t>
            </a:r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19840" y="6567480"/>
            <a:ext cx="9874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October 2006</a:t>
            </a:r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486400" y="6564240"/>
            <a:ext cx="365760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I - Using the PSP - </a:t>
            </a:r>
            <a:fld id="{905B865D-2561-45E0-AC7B-18C4A725D310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© 2006 by Carnegie Mellon University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18040" y="6567480"/>
            <a:ext cx="9874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October 2006</a:t>
            </a:r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578560" y="6564240"/>
            <a:ext cx="35654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I - Using the PSP - </a:t>
            </a:r>
            <a:fld id="{6A0640D6-B5AC-4835-A7D7-8C7B434EA492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128520" indent="0"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465120" algn="ctr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370160" algn="ctr">
              <a:spcBef>
                <a:spcPts val="550"/>
              </a:spcBef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4" marL="1825560" algn="ctr">
              <a:spcBef>
                <a:spcPts val="550"/>
              </a:spcBef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5" marL="1825560">
              <a:spcBef>
                <a:spcPts val="550"/>
              </a:spcBef>
              <a:buClr>
                <a:srgbClr val="3953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6" marL="1825560">
              <a:spcBef>
                <a:spcPts val="550"/>
              </a:spcBef>
              <a:buClr>
                <a:srgbClr val="3953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8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41480" y="1508040"/>
            <a:ext cx="634212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Personal Software Process</a:t>
            </a:r>
            <a:r>
              <a:rPr b="1" lang="en-US" sz="3100" spc="-1" strike="noStrike" baseline="30000">
                <a:solidFill>
                  <a:srgbClr val="39536b"/>
                </a:solidFill>
                <a:latin typeface="Arial Narrow"/>
              </a:rPr>
              <a:t>SM</a:t>
            </a: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 </a:t>
            </a:r>
            <a:endParaRPr b="0" lang="en-US" sz="31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for Engineers: Part II</a:t>
            </a:r>
            <a:endParaRPr b="0" lang="en-US" sz="31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39536b"/>
                </a:solidFill>
                <a:latin typeface="Arial Narrow"/>
              </a:rPr>
              <a:t>Using the PSP</a:t>
            </a:r>
            <a:endParaRPr b="0" lang="en-US" sz="45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at Does the TSP Do?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establishes an environment that builds, develops, uses, and supports self-directed team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self-directed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ts its own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es its own ro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cides on its own development strate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s its own proces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velops its own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asures, manages, and controls its own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lf-directed teams are jelled teams and they do the best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anagement Suppor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ment will agree to you and your team mates working as a self-directed team as long as you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rive to meet their need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gularly report on you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vince them that your plans are sound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 quality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spond to changing need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e to them for help when you need i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ile this is not hard for you to do, it tak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kil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sciplined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uidance and supp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Building Needed Skills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 shows you how to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asure and manage your personal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data to make sound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 the quality of you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e quality products on predictable schedu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the TSP, you use these skills to convince management to support self-directed team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launch starts you on this roa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Structure and Flo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0560" y="1634760"/>
            <a:ext cx="382104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TSP launch kicks off each major project pha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builds a common understanding of the work and the way to do i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members produce plans to guide their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bsequent phases kick off with a TSP relaunch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81640" y="1690560"/>
            <a:ext cx="325584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TSP Launch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launch is a four-day workshop involving the team and manag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leader and all team members particip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launch workshop is not a course; it is part of the project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unch workshops are planned and track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TSP Launch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launch performs essential task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out the launch, these tasks are not generally addressed until well into the project, if the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n it is often too late to prevent proble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se late-discovered problems usually cause delay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launch workshop accelerates team building.  It build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common understanding of the job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greement on how to do the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mitment to a team plan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ment support for the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ducts needed to get management supp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TSP Launch Produc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28880" y="144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1360" y="1538280"/>
            <a:ext cx="1835280" cy="11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Business needs</a:t>
            </a:r>
            <a:endParaRPr b="0" lang="en-US" sz="13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Management goals</a:t>
            </a:r>
            <a:endParaRPr b="0" lang="en-US" sz="13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Product requirements</a:t>
            </a:r>
            <a:endParaRPr b="0" lang="en-US" sz="13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1200" y="4527720"/>
            <a:ext cx="1467000" cy="16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Team goals</a:t>
            </a:r>
            <a:endParaRPr b="0" lang="en-US" sz="13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Conceptual design</a:t>
            </a:r>
            <a:endParaRPr b="0" lang="en-US" sz="13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Planned products</a:t>
            </a:r>
            <a:endParaRPr b="0" lang="en-US" sz="13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Size estimates</a:t>
            </a:r>
            <a:endParaRPr b="0" lang="en-US" sz="13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62240" y="4527720"/>
            <a:ext cx="1594080" cy="11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Task hour plan</a:t>
            </a:r>
            <a:endParaRPr b="0" lang="en-US" sz="13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Schedule plan</a:t>
            </a:r>
            <a:endParaRPr b="0" lang="en-US" sz="13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Earned-value plan</a:t>
            </a:r>
            <a:endParaRPr b="0" lang="en-US" sz="13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14680" y="4527720"/>
            <a:ext cx="15937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Team strategy</a:t>
            </a:r>
            <a:endParaRPr b="0" lang="en-US" sz="13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Team process</a:t>
            </a:r>
            <a:endParaRPr b="0" lang="en-US" sz="13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35360" y="4527720"/>
            <a:ext cx="159408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Team roles</a:t>
            </a:r>
            <a:endParaRPr b="0" lang="en-US" sz="13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Task plans</a:t>
            </a:r>
            <a:endParaRPr b="0" lang="en-US" sz="13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Detailed plans</a:t>
            </a:r>
            <a:endParaRPr b="0" lang="en-US" sz="13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83280" y="4527720"/>
            <a:ext cx="159552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Quality plan</a:t>
            </a:r>
            <a:endParaRPr b="0" lang="en-US" sz="13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542360" y="4527720"/>
            <a:ext cx="1377720" cy="12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Risk evaluation</a:t>
            </a:r>
            <a:endParaRPr b="0" lang="en-US" sz="13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Risk mitigation plans</a:t>
            </a:r>
            <a:endParaRPr b="0" lang="en-US" sz="13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Alternate plans</a:t>
            </a:r>
            <a:endParaRPr b="0" lang="en-US" sz="1300" spc="-1" strike="noStrike">
              <a:solidFill>
                <a:srgbClr val="39536b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79360" y="2703600"/>
            <a:ext cx="8583480" cy="18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42760" y="876240"/>
            <a:ext cx="7707240" cy="633600"/>
          </a:xfrm>
          <a:prstGeom prst="rect">
            <a:avLst/>
          </a:prstGeom>
          <a:noFill/>
          <a:ln w="0">
            <a:noFill/>
          </a:ln>
        </p:spPr>
        <p:txBody>
          <a:bodyPr lIns="102960" rIns="102960" tIns="51480" bIns="5148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Launch Process Meeting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95000" y="1647720"/>
            <a:ext cx="79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Day 1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85640" y="1647720"/>
            <a:ext cx="79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Day 2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14440" y="1647720"/>
            <a:ext cx="79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Day 3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82760" y="1647720"/>
            <a:ext cx="791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Day 4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090440" y="2098800"/>
            <a:ext cx="696312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Launch Meeting 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eting 1 provides the developers the information they need to produce their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eting 1 is typically led by the TSP coach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agenda is as follo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ponsor: opening com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ach and attendee introduc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ach: review of meeting objectives and agend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nior management: project objectiv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rketing/customer: project require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Questions and discuss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eting 1 Strategy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ment usually describes the needed products and schedul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ile this “solution” is usually aggressive, it only represents one possible way to do the job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must understand management’s true needs to address the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 not even imply that you think management’s objectives are unrealistic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r attitude should be: “If that is what management wants,  we will do our utmost to do it.”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6240" y="874440"/>
            <a:ext cx="8267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Topics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80560" y="1465200"/>
            <a:ext cx="7559640" cy="43308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orking on a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is the TSP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unching a TSP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orking on a TSP proje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ext step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cluding com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eting 1 Strategy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meeting 1, the team should ask enough questions to understand what management need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meetings 2 through 8, the team will strive to produce a plan that meets these need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ly the team, the team leader, and the TSP coach attend  these meeting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n, in meeting 9, the team will meet with management and other invited parties to review the team’s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Launch Meeting 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eting 2 has two objectiv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obtain agreement on the team’s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establish the team member ro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leader typically leads the team through the goals discussion, with help from the TSP coach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start with management’s stated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n you review the implied but unstated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ext, you agree on the team’s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nally, you define goal measur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ce you agree on the goals, the team leader and coach guide the team through team role selec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TSP Roles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roles establish responsibilities for team oper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development roles a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ustomer interface manager – focal point for requirements and customer-related issu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 manager – establishes design standards and guides the design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lementation manager – defines the implementation standards and handles implementation issu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st manager – ensures that test issues are properly considered and handles test planning and coordin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TSP Roles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support roles a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ning manager – helps the team maintain, track, and report on the plan and plan statu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cess manager – guides the process definition work, handles PIPs, and monitors process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Quality manager – reviews process and product quality and monitors team inspec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pport manager – ensures that proper support tools and aids are available and handles support issu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assigns additional roles for security, safety, usability, and so forth if they are need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Team Leader Rol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leader typically does not take any team rol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leader’s responsibilities are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vide team leadership – sustain motivation, prioritize the work, guide team memb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intain team communication – run weekly meetings and communicate management needs and ac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btain resources – get needed staffing and protect team members from non-project demand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port to management – inform management about team progress and issues and get help when need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 any but very small teams, the team leader does not have time to do much if any development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eting 2 Produc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meeting 2, the team produces and documents two produ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each goal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cide on goal measur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ign member responsibility for tracking the goa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are the team’s goals with management’s objectiv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ro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member assigned to each team ro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y additional roles that the team feels are need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Launch Meeting 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meeting 3, the team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s the products to be produc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grees on a product conceptual desig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velops a project strate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s the development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the coach’s guidan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leader leads the team in defining its produ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leader also leads the team in establishing the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velopment strate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design manager leads the effort to produce the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ceptual desig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cess manager leads the team in defining it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velopment proces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eting 3 Produc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meeting 3, the team produces and documents four produ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list of the project’s planned produ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duct conceptual desig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’s development strate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’s development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Launch Meeting 4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meeting 4, the team develops its top-down plan for the entire job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ther the job lasts 5 weeks or 5 years, the team’s top-down plan covers final product deliver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 duration is defined by the duration of the team’s commitment.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a five-year project, if the commitment is fo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e phase, the team makes a one-phase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commitment is for five years, the team makes a five-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ear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eting 4 Agend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meeting 4, teams first develop a detailed product size estim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n, based on their defined process, the team members define the job’s tasks and estimate the time for each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uring meeting 4, the team often discovers that it cannot meet management’s needs with the available resourc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then devises alternate plans with varied mixes of resource, function, and schedu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orking in Team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87480" y="1601640"/>
            <a:ext cx="7410240" cy="481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buNone/>
              <a:tabLst>
                <a:tab algn="l" pos="0"/>
                <a:tab algn="l" pos="251784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uccessful teams are both satisfying and rar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251784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251784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lthough many teams come close to meeting their product and business goals, they often do so at the expense of the team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251784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251784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re is something magical about an effective team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17440">
              <a:buClr>
                <a:srgbClr val="39536b"/>
              </a:buClr>
              <a:buFont typeface="Arial"/>
              <a:buChar char="•"/>
              <a:tabLst>
                <a:tab algn="l" pos="251784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It has an ethic, an attitude, and an energy that permeate everything it doe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17440">
              <a:buClr>
                <a:srgbClr val="39536b"/>
              </a:buClr>
              <a:buFont typeface="Arial"/>
              <a:buChar char="•"/>
              <a:tabLst>
                <a:tab algn="l" pos="251784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The teammates support one another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17440">
              <a:buClr>
                <a:srgbClr val="39536b"/>
              </a:buClr>
              <a:buFont typeface="Arial"/>
              <a:buChar char="•"/>
              <a:tabLst>
                <a:tab algn="l" pos="251784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They intuitively know when and how to help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17440">
              <a:buClr>
                <a:srgbClr val="39536b"/>
              </a:buClr>
              <a:buFont typeface="Arial"/>
              <a:buChar char="•"/>
              <a:tabLst>
                <a:tab algn="l" pos="251784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They rally around at just the right tim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17440">
              <a:buClr>
                <a:srgbClr val="39536b"/>
              </a:buClr>
              <a:buFont typeface="Arial"/>
              <a:buChar char="•"/>
              <a:tabLst>
                <a:tab algn="l" pos="251784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The members are part of a common effor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17440">
              <a:buClr>
                <a:srgbClr val="39536b"/>
              </a:buClr>
              <a:buFont typeface="Arial"/>
              <a:buChar char="•"/>
              <a:tabLst>
                <a:tab algn="l" pos="251784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They have a sense of belonging and a feeling of camaraderie.”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251784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9536b"/>
                </a:solidFill>
                <a:latin typeface="Arial"/>
              </a:rPr>
              <a:t>- </a:t>
            </a:r>
            <a:r>
              <a:rPr b="0" i="1" lang="en-US" sz="1300" spc="-1" strike="noStrike">
                <a:solidFill>
                  <a:srgbClr val="39536b"/>
                </a:solidFill>
                <a:latin typeface="Arial"/>
              </a:rPr>
              <a:t>Introduction to the TEAM Software Process</a:t>
            </a:r>
            <a:r>
              <a:rPr b="0" lang="en-US" sz="1300" spc="-1" strike="noStrike">
                <a:solidFill>
                  <a:srgbClr val="39536b"/>
                </a:solidFill>
                <a:latin typeface="Arial"/>
              </a:rPr>
              <a:t>, Watts Humphrey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251784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251784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is is what we call a “jelled team.”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eting 4 Produc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meeting 4, the team produces the following produ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t size estima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ask-hour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chedule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earned-value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e or more alternate plans if need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ject Size Estimat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-14400" y="3068640"/>
            <a:ext cx="9077400" cy="3089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17360" y="1743120"/>
            <a:ext cx="7172280" cy="21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SP teams typically document their size estimates in a TSP support tool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size estimates look like the following: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am Task and Resource Pla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44360" y="1557360"/>
            <a:ext cx="7621560" cy="169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task list includes the product assembly, process phase, task, team assignment, estimated size, and development time.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41520" y="2716200"/>
            <a:ext cx="802296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Launch Meeting 5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meeting 5, the team makes its quality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members estimate the defects injected from historical defect-injection rates and planned phase tim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also use historical yield data to estimate defects removed by pha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discusses and agrees on the quality management strategy and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meeting 5 product is a quality plan with delivered product defects and projected defects injected and removed by pha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Quality Pla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3040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o make the quality plan, the team enters defect-injection and yield data and the TSP support tool calculates the defects injected and removed by phas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987800" y="2946240"/>
            <a:ext cx="3435480" cy="27925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987480" y="2973240"/>
            <a:ext cx="3860640" cy="27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Launch Meeting 6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meeting 6, the team members make personal plans for the next plan period – typically three to five month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planning manager leads this effort, under the guidance of the TSP coach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o will handle each tas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mber plans for the assigned ta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solidated team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reviews the consolidated plan and rebalances team-member workload if need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meeting 6 products are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alanced team member plan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consolidated overall team plan and alternate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Launch Meeting 7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meeting 7, the team assesses the plan’s perceived risk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risk may or may not happen while an issue is certain to happe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decides which risks to track and manage and what mitigation plans are need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meeting product is a list of the risks with each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ated on likelihoo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ated on sever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igned to a team member for track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Launch Meeting 8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meeting 8, the team prepares its meeting 9 plan presentation to manag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ypical meeting 9 agenda is as follo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brief summary of the meeting conclus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review of the launch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ummary of the team’s and management’s goals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member role assign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development strategy and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lan and principal alternate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quality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isk evaluation and mitig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Questions and discuss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eting 8 Strategy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leader typically presents the plan with team members participating as the team choos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is important to provide summary plan information but to also have the details available if request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ducts of meeting 8 a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verheads for the meeting 9 present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andout copies of the plan materi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likely management questions and the team’s agreed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spon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list of the help needed from management to implement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Launch Meeting 9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, team leader, coach, management, and invited visitors attend meeting 9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meeting purpose is to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cribe the team’s plan to management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swer management’s question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et management’s approval of the plan or selected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terna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y needed actions, who will take them, and whe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meeting product is typically an approved plan or the actions needed to get approval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management does not agree with any of the plans, they usually decide to reconsider their need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Jelled Team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Jelled teams do the best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bjective of the TSP is to build and maintain jelled te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eting 9 Strategy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is advisable to start meeting 9 with a statement like:  “We could not precisely meet your requirements but we have developed several alternate plans that we believe come reasonably close.”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tells management what to expect and allows them to listen rather than to poke at every potential plan weakn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should explain how the plan was mad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data us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assumptions mad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re they had to gu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Launch Postmortem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launch postmortem is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solidate the plan and launch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the launch process and produce PIP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scuss open issues and agree on how to handle the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final launch steps are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ign responsibility for the project notebook (often the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cess manager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ign responsibility for handling the PIP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le launch data in the project noteboo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bmit the launch data to the SEI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orking on a TSP Projec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ce you have management support to launch a TSP team, you need to keep that suppor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requires that you and your teammates do five thing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llow the process you have defin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intain the individual and team pla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 product qualit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gularly track and report your progr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tinually demonstrate high performanc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Following the Process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en though you defined the process yourself, it will likely be a challenge to follow it consistentl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rding time, size, and defect data takes little time but is easy to forge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you do forget, just enter your best estim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out good time, size, and defect data, you cannot precisely manage the project schedule or product qualit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istory demonstrates that, without precise management, software projects usually fail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Following the Process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key to following the process is to recognize that the longer you do it, the better you will get at i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is most exciting is that, as your process fidelity improves, so will your job performanc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in turn will improv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r pride in you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quality of your product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r credibility with 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management values you as an employe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aintaining the Pla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allenging and dynamic fields like software face constant chang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we develop products, we learn more about what is needed, how to build it, and how to improve i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incorporate this continual learning, we must update our pla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eep old plan copies, but don’t hesitate to change the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 don’t, you will not be able to track and report on the work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cking Product Qualit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 data provide a wealth of information that help you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 the quality of your work as you do i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ess and improve the quality of each process ste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aluate the quality of your products as you build the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cide which products have marginal quality and should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 rework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most useful quality measures are yield, A/FR, review rates, defects/size, and PQI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Defect Data by Phase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ith the PSP data, TSP tools can display lots of useful informatio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ne example is the  percentage of actual or planned defects injected by phas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nother is the defect distribution removed by phas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649760" y="1566720"/>
            <a:ext cx="4441680" cy="4911840"/>
            <a:chOff x="4649760" y="1566720"/>
            <a:chExt cx="4441680" cy="491184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4649760" y="1566720"/>
              <a:ext cx="4441680" cy="245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2"/>
            <a:stretch/>
          </p:blipFill>
          <p:spPr>
            <a:xfrm>
              <a:off x="4649760" y="4027320"/>
              <a:ext cx="4441680" cy="2451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elected TSP Quality Profil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60200" y="1735200"/>
            <a:ext cx="8769600" cy="47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cking and Reporting Progres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rs always have questions and the less they know, the more they as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s the team falling behind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s everybody working hard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ll they meet the next mileston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can I do to keep them on schedul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can I tell senior management about project statu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be a self-directed team, you need management’s trus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keep management’s trust, answer these questions before they think to ask the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takes data, analysis, and regular report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mplex Intellectual Work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do complex and high-quality intellectual work, software professionals mu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uly understand the proble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nd the problem an interesting challeng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ant to solve the proble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ave the flexibility to solve the problem their own wa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ftware developers like to work this wa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is highly rewarding to work on a team th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hares common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orks cooperatively to meet its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ject Progress Indicator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798480" y="2379600"/>
            <a:ext cx="7550280" cy="41688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017720" y="1709640"/>
            <a:ext cx="70768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adequate working hours per week is often an early sign that the team is falling behind and needs management help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880" y="3774960"/>
            <a:ext cx="8034480" cy="248616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Weekly Team Data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25120" y="1665360"/>
            <a:ext cx="7767720" cy="19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SP teams review their status, progress, and plans every week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weekly summary report provides all the data needed to precisely determine project status and rate of progres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se data provide the information you need for management reporting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monstrate Performanc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ood work is satisfying, profitable, and fun but it is also invisib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day, most development organizations use crisis manag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typically work on the crises and ignore everything el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the TSP, you will rarely have crises and never have schedule surpris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less you regularly advertise your successes, your work will not be noticed and you will lose management suppor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Next Step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ce you complete the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PSP for Engineer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course, you are qualified to be a TSP team membe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may also train to be an authorized PSP instructor and TSP coach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Instructor Train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EI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PSP Instructor Training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course teaches you to teach the PSP and TSP cours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executive semina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 management train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ersonal process cour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 I and PSP II engineering cour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an authorized PSP instructor, you can become licensed to use the SEI course materi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are also required to provide student data and course evaluations for each course you teach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structor Training Requiremen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5480" y="17017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try criteri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lete a written pre-test (open-book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bmit your PSP student data to the SEI for screening to ensure that you have a basic understanding of the P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vious teaching or public speaking experien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ake the five-day training course at the SEI within eighteen months of completing the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PSP for Engineer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cour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sent your PSP data and a case stud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ass a qualification exam (closed-book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ach Training Purpos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5480" y="17161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EI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TSP Coach Training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teaches you to coach TSP te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is a five-day course taught at the SEI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attend you must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 an SEI-authorized PSP instructo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ave a TSP license agreement between your organization and CMU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qualify as a TSP coach, SEI must observe you successfully launch a TSP tea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Certific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5480" y="1716120"/>
            <a:ext cx="7410600" cy="457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a certified PSP professional, you will have recognized evidence of your professional competence in software engineer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will make you more attractive as a potential employee and add to your professional statur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find out more about the PSP certification process, contact the SEI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ncluding Commen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PSP training, you now have the skills and knowledge to do superior software engineer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these skills come responsibilit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fulfill these responsibilities, it is helpful to consider your personal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Responsible Professional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45800" y="158076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a responsible professional, you need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nd and learn new method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these methods in you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gnize your strengths and weaknes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y areas for improv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actice, practice, practi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ublicize the methods that you find helpfu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arn from histor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will assure your continuing professional growth and improv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How Successful Teams Evolv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ability of a team to effectively work together develops over tim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s generally begin with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verse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 clear sense of responsibilit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vague ideas about the product to be buil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varying approaches to the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time, team members may converge on a common understanding of these facto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ly then can they do their best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06200" y="1033200"/>
            <a:ext cx="78152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600" spc="-1" strike="noStrike">
                <a:solidFill>
                  <a:srgbClr val="9c2108"/>
                </a:solidFill>
                <a:latin typeface="Arial"/>
              </a:rPr>
              <a:t>What Do You Want from Software Engineering?</a:t>
            </a:r>
            <a:endParaRPr b="1" lang="en-US" sz="2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17360" y="162360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are your personal objective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rprisingly often, we achieve our objectives in ways that we did not expect, so keep an open mind and keep look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nce we all reach the same end, we should concentrate on the rou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 can occasionally achieve excellence, it could be well worth the tri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Requirements of Team Member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88920" y="162360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ile skilled members are essential, technical skills alone are not enough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igh-performance teamwork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s interdepend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volves shared commit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work this way, the team members mu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 personally disciplin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their own abilitie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realistic commit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at is the TSP?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is a framework and a process structure for building and guiding engineering te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contai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team-building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process that builds shared goals, commitments, and cohes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</a:t>
            </a:r>
            <a:r>
              <a:rPr b="0" i="1" lang="en-US" sz="2200" spc="-1" strike="noStrike">
                <a:solidFill>
                  <a:srgbClr val="0000ff"/>
                </a:solidFill>
                <a:latin typeface="Arial"/>
              </a:rPr>
              <a:t>team-working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process that guides the team’s  engineering processes and practice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prerequisite for TSP teams is mastery of the software engineering and process skills taught in the PSP cour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87400" y="853560"/>
            <a:ext cx="7826400" cy="8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Building Effective Teams with the TSP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55560" y="1538280"/>
            <a:ext cx="8099640" cy="5079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dc:language>en-US</dc:language>
  <cp:lastModifiedBy>Julia Mullaney</cp:lastModifiedBy>
  <cp:lastPrinted>2000-12-21T16:04:54Z</cp:lastPrinted>
  <dcterms:modified xsi:type="dcterms:W3CDTF">2006-10-26T13:00:18Z</dcterms:modified>
  <cp:revision>144</cp:revision>
  <dc:subject/>
  <dc:title>No Slide Title</dc:title>
</cp:coreProperties>
</file>