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77760" y="890280"/>
            <a:ext cx="74217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77760" y="890280"/>
            <a:ext cx="742176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748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748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Software Design I - </a:t>
            </a:r>
            <a:fld id="{DBAE8F69-7AB8-404A-B703-8076B2DC1CD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9800" y="14032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1880" y="4967280"/>
            <a:ext cx="73134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Software Design I - </a:t>
            </a:r>
            <a:fld id="{C5720989-6B4A-44B3-8F2D-335A12EB8AC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3600" y="158436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Software Design I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91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Design Proces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560" y="16524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there is no single best design method, the PSP  supports multiple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focuses on what a complete design should cont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goal is to eliminate requirements and design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uses design templates to provi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iteria for design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able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Complete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02960" y="16999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-specified and incomplete designs are expensive and error-pr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s can be over-specified, especially when they are produced without completeness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PSP course, most students find that their designs are incomplete and do not adequately guide imple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void over- or under-spec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your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design completenes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design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76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Re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50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rtant to separate two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do the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to represent the design when it is comp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the PSP can be used with any design method, it does not specify a specific design appr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the PSP does address design repres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69760" y="850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Methods and No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596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many design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ne have been proven best for every dom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st method often depends on individual skills and  prefer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widely-usable process must work with many different design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also many types of design not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raphics assist in visualizing struct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ality provides preci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xt provides intuitive understan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ften all three types of design notations ar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2160" y="9475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oor Design Notations Cause Defect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88920" y="17143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isi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x designs are difficult to visual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oor representation compounds visualization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well-represented design captures all design decisions unambiguous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dunda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dundant design is often in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nsistency breeds errors and causes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ty design has minimum duplic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possible, use design tools that ensure consistenc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904680"/>
            <a:ext cx="73911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Notation Requirement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2400" y="1699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notation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ly define all significant design aspe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commonly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unicate the designers’ int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to identify design problems and omis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suitable for representing a broad range of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should als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concise and easy to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a complete and accessible refer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minimum redundan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al notations meet these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665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Formal Notation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7640" y="16714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vantages: using a formal no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s precise and compact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familiarity with an important no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consistent with the notation used in formal methods for proving program correct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tinguishes logic from other expres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advantages: formal desig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nerally take more time to cre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practice to build familiar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y not be understood by users and co-work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thematical No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39800" y="1450800"/>
          <a:ext cx="7959600" cy="51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1450800"/>
                    <a:ext cx="795960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6688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Functional Stat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7640" y="1652400"/>
            <a:ext cx="7702560" cy="2516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scribing program functions, actions and conditions are separa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ition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d,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“When Condition is true, do Action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ral condition/action pairs are written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98720" y="4194000"/>
          <a:ext cx="7356240" cy="2027520"/>
        </p:xfrm>
        <a:graphic>
          <a:graphicData uri="http://schemas.openxmlformats.org/drawingml/2006/table">
            <a:tbl>
              <a:tblPr/>
              <a:tblGrid>
                <a:gridCol w="3678120"/>
                <a:gridCol w="3678120"/>
              </a:tblGrid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Condition A </a:t>
                      </a: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 Action A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when Condition A, do Action A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Condition B </a:t>
                      </a: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 Action B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when Condition B, do Action B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Symbol"/>
                          <a:ea typeface="Symbol"/>
                        </a:rPr>
                        <a:t>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Condition C </a:t>
                      </a: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  <a:ea typeface="Arial"/>
                        </a:rPr>
                        <a:t>→</a:t>
                      </a: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Courier New"/>
                        </a:rPr>
                        <a:t> Action C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i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when Condition C, do Action C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758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positive, set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zer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x &gt; 0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y := 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is even, return the sum o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otherwise return the difference between x and 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n(x)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turn( x + y ) </a:t>
            </a:r>
            <a:r>
              <a:rPr b="1" lang="en-US" sz="2000" spc="-1" strike="noStrike">
                <a:solidFill>
                  <a:srgbClr val="39536b"/>
                </a:solidFill>
                <a:latin typeface="Symbol"/>
                <a:ea typeface="Symbol"/>
              </a:rPr>
              <a:t>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odd(x)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→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turn( x – y 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otation Examp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884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pres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design templ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rational spec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al spec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 spec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c spec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hierarch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94960" y="1676160"/>
            <a:ext cx="7410600" cy="849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 that an array a[0..N-1] has no duplicate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868320" y="730080"/>
            <a:ext cx="7826400" cy="8258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Notation Examp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55520" y="4079880"/>
            <a:ext cx="7469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expression reads as follows.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ll indexes i and j with values in the range 0 to N-1, where i and j are not equal, the corresponding elements of the array a are not equal.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46080" y="2473200"/>
            <a:ext cx="7421760" cy="10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6040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rs of Design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0504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users of the design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viewers and verifi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ers and test develop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ers, maintainers, and enhanc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users potentially need a large amount of materi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all information is needed immedi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information can be obtained from other 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wise to limit the design workload as much as pos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65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sential Design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90280" y="1657080"/>
            <a:ext cx="782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formation that designers should provide 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icture of where the program fits into the 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escription of how the program will be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pecification for all related classes and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tructural view of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pecification of all external calls and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ist of all external variables, parameters, and const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lear statement of the program’s logi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sential design information can be categorized into static or dynamic views, and internal or external 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176480" y="1971720"/>
            <a:ext cx="6789600" cy="39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Templ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6640" y="1662120"/>
            <a:ext cx="7562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572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 design templates are used in the PSP to cover the four design view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171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rational specification templa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171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al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171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 specification templa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171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c specification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572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four templates provide the framework for completely and precisely recording a software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pping Templates to View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76480" y="2044800"/>
            <a:ext cx="6789600" cy="39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2360" y="807840"/>
            <a:ext cx="5949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perational Templ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0640" y="16524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erational specification template describes the users’ normal and abnormal interactions with the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contains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incipal user actions and system respons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ticipated error and recovery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perational specification template can be us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est scenarios and test c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olve development questions about operational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200" indent="-2077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olve requirements discussions with us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496280" y="23652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72640" y="880560"/>
            <a:ext cx="62182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 Operational Templat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57240" y="1773360"/>
          <a:ext cx="7323120" cy="46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7240" y="1773360"/>
                    <a:ext cx="73231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749772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82360" y="817200"/>
            <a:ext cx="6522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600" spc="-1" strike="noStrike">
                <a:solidFill>
                  <a:srgbClr val="9c2108"/>
                </a:solidFill>
                <a:latin typeface="Arial"/>
              </a:rPr>
              <a:t>Operational Template Class Exercise -1</a:t>
            </a:r>
            <a:endParaRPr b="1" lang="en-US" sz="2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21960" y="1650960"/>
            <a:ext cx="7410600" cy="3154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is exercise, as a class, we will produce an operational scenario template for program 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62960" y="208080"/>
            <a:ext cx="137772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2" name=""/>
          <p:cNvGraphicFramePr/>
          <p:nvPr/>
        </p:nvGraphicFramePr>
        <p:xfrm>
          <a:off x="1284120" y="2732040"/>
          <a:ext cx="6540840" cy="3124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4120" y="2732040"/>
                    <a:ext cx="654084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77400" y="890280"/>
            <a:ext cx="5335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unctional Templ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711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unctional specification template allows you to unambiguously define the external functions provided by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es and inheritanc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ternally visible attrib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ternal functions prov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ionships with other classes or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possible, specify the behavior of each function or method with a formal no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526160" y="1936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is a Learning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88480" y="1645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involves discovery, invention, and intuitive leaps from one abstraction level to anoth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 design must reflect the requirements, requirements usually are not stable until the product has been used, if th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work is iterative, and it must be driven by feedback from all involved par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ritical problem is knowing when to freeze the design to produce the next iter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77400" y="937800"/>
            <a:ext cx="5983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 Functional Templat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360" y="1504800"/>
          <a:ext cx="5850000" cy="50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504800"/>
                    <a:ext cx="5850000" cy="50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542360" y="193680"/>
            <a:ext cx="137772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5880" y="852480"/>
            <a:ext cx="65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Producing the Functional Template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3520" y="1647720"/>
            <a:ext cx="76388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produce a functional template, you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 how to build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duct’s fun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key product attrib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unctional specification is usually developed in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ine the elements of that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se the functional specification template as you better understand how to build the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526160" y="20808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Functional Template Class Exercise -1 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is exercise, as a class, we will produce a functional specification template for program 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’ll start by quickly sketching out a design of program 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66880" y="842760"/>
            <a:ext cx="6773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Functional Template Class Exercise -2 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3880" y="165708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we will produce a functional specification template for program 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53240" y="2095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1241280" y="2452680"/>
          <a:ext cx="6567480" cy="3807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41280" y="2452680"/>
                    <a:ext cx="6567480" cy="38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560" y="846000"/>
            <a:ext cx="626112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ate Specification Template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88480" y="165708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te specification template (SST) precisely defi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 states requi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s among the st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ions taken with each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SST, you c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state machine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e the state machine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mistakes and omis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5880" y="822240"/>
            <a:ext cx="65358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tate Specification Template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80560" y="1662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ST specif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ame of every stat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brief description of each st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ame and description of any functions or parameters used in the S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ditions that cause transitions from the state to itself or to any other st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ditions that cause transitions from any other state to this st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ctions taken during each transi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State Templ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422360" y="1494000"/>
          <a:ext cx="4952880" cy="507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494000"/>
                    <a:ext cx="495288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c Specification Template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99640" y="1657080"/>
            <a:ext cx="7613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ogic specification template precisely defines the program’s internal log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s objective is to describe the logic in a concise and convenient no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seudocode compatible with the implementation language is often appropri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al notation is also appropri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the designers and the implementers must be familiar with the notation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64720" y="846000"/>
            <a:ext cx="63342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c Specification Template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7400" y="1647720"/>
            <a:ext cx="7702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ogic specification template should specif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ogic for each item or method, each part and class, and the overall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cise call to each program, part, or metho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external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cial data types and data defin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52616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73000" y="880560"/>
            <a:ext cx="515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 Logic Template 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409760" y="1482840"/>
          <a:ext cx="7040520" cy="518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9760" y="1482840"/>
                    <a:ext cx="7040520" cy="51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524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esign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330200" y="1519200"/>
            <a:ext cx="64836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66880" y="823680"/>
            <a:ext cx="45338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Pseudoco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93880" y="1676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producing pseudocode desig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spoken languag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possible, avoid programming constr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unavoidable, use constructs from the implementation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the program’s action is clear, make a brief no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more specific about complex constructs, loops, and state-machine struct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writing the pseudocode in your development environ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ter, when implementing the program, include the pseudocode in the com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7497720" y="222120"/>
            <a:ext cx="1378080" cy="9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66520" y="833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Logic Template Class Exercise -1 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93880" y="1647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is exercise, as a class, we will produce a logic specification template for a function in program 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650000" y="222120"/>
            <a:ext cx="1378080" cy="984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8" name=""/>
          <p:cNvGraphicFramePr/>
          <p:nvPr/>
        </p:nvGraphicFramePr>
        <p:xfrm>
          <a:off x="1290600" y="2584440"/>
          <a:ext cx="6540480" cy="3263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0600" y="2584440"/>
                    <a:ext cx="6540480" cy="32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6040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Design Templ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78040" y="1657080"/>
            <a:ext cx="77025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design templates provide one way to represent a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re precise, unambiguous, non-redundant, and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PSP design templates in conjunction with your other design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presentations may be substituted if they are equally precise, unambiguous, non-redundant, and 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Guidelin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designing large programs, use a dynamic design strategy that allows for uncertain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design problems cannot be resolved without first building and testing a potential solution.  For these cases, use prototyp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modifying or enhancing an existing system without a documented design, use the design templates to record the design as you decipher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esign Hierarch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31760" y="1709640"/>
            <a:ext cx="74138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use the design templates to refine the specification and design of large or small software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on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ing with requirements, produce a set of design templates to describe the highest-level produ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design templates as the requirements for producing the design templates for the next product leve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gram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146240" y="1674720"/>
            <a:ext cx="685152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123920" y="1674720"/>
            <a:ext cx="6896160" cy="472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50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288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design is a creative process, its routine aspects can be def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design notation will reduce design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recise design specifications and formats will improve design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PSP design templates in the course exercises, and whenever you can do so in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2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30320" rIns="130320" tIns="65160" bIns="651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velopment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80960" y="1704960"/>
            <a:ext cx="6351840" cy="466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88920" y="169992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is a defect prevention a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or quality designs are a major source of rework, maintenance, and user dissatisfa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quality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complete and pre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s the user’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ly guides imple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7760" y="9046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Leve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8920" y="1714320"/>
            <a:ext cx="74138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work is an inverted pyramid in which each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a foundation for the following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bugs the preceding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ave time and prevent defects, document all design decisions at all levels when they are ma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120760" y="4010040"/>
            <a:ext cx="49006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87120" y="8949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ucturing the Design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12680" y="1704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ood software designers follow a dynamic process.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mp from concept to detai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ultaneously consider issues at several design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ore multiple altern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tructured design process can help you to manage the dynamics of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pture what has been lear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 and manage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design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perly-implemented design process will reduce rework, manage routine tasks, and give the designer the freedom to be crea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776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esign Hierarch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542960"/>
            <a:ext cx="8658360" cy="4934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Dan Burton</cp:lastModifiedBy>
  <cp:lastPrinted>2000-12-21T16:04:54Z</cp:lastPrinted>
  <dcterms:modified xsi:type="dcterms:W3CDTF">2006-11-01T21:12:56Z</dcterms:modified>
  <cp:revision>206</cp:revision>
  <dc:subject/>
  <dc:title>No Slide Title</dc:title>
</cp:coreProperties>
</file>